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CAA9-B2D6-42C1-9559-89BAC0D1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2B09-B0B5-4EFC-A3F7-74BC9A20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A5EC-D047-4FF4-A319-D9E52477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C1F-539B-4D79-8758-EBAB2EF7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3DF5-E61C-4089-AD58-768B19BF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0F5-DC7D-4B47-B1F6-FA48B411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9676-465D-4E6F-81F7-C9DCE943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01CE-975B-494E-8E6D-01EA2947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A66-906B-4DC7-9913-D6F292E0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0412-4D30-4479-B703-432293B9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8482-5F7E-42D8-A442-5170B919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463-2D17-4FE7-A2B3-19678AFB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6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286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92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6630057-85DA-40C0-B878-0E3C41059571}" type="slidenum"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3800" y="2714760"/>
            <a:ext cx="515880" cy="409320"/>
          </a:xfrm>
          <a:custGeom>
            <a:avLst/>
            <a:gdLst/>
            <a:ahLst/>
            <a:rect l="l" t="t" r="r" b="b"/>
            <a:pathLst>
              <a:path w="300" h="258">
                <a:moveTo>
                  <a:pt x="24" y="228"/>
                </a:moveTo>
                <a:lnTo>
                  <a:pt x="0" y="30"/>
                </a:lnTo>
                <a:lnTo>
                  <a:pt x="102" y="0"/>
                </a:lnTo>
                <a:lnTo>
                  <a:pt x="276" y="60"/>
                </a:lnTo>
                <a:lnTo>
                  <a:pt x="300" y="240"/>
                </a:lnTo>
                <a:lnTo>
                  <a:pt x="222" y="258"/>
                </a:lnTo>
                <a:lnTo>
                  <a:pt x="30" y="2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64360" y="2544840"/>
            <a:ext cx="317520" cy="207720"/>
          </a:xfrm>
          <a:custGeom>
            <a:avLst/>
            <a:gdLst/>
            <a:ahLst/>
            <a:rect l="l" t="t" r="r" b="b"/>
            <a:pathLst>
              <a:path w="552" h="391">
                <a:moveTo>
                  <a:pt x="0" y="204"/>
                </a:moveTo>
                <a:lnTo>
                  <a:pt x="220" y="391"/>
                </a:lnTo>
                <a:lnTo>
                  <a:pt x="515" y="344"/>
                </a:lnTo>
                <a:lnTo>
                  <a:pt x="552" y="110"/>
                </a:lnTo>
                <a:lnTo>
                  <a:pt x="433" y="0"/>
                </a:lnTo>
                <a:lnTo>
                  <a:pt x="193" y="70"/>
                </a:lnTo>
                <a:lnTo>
                  <a:pt x="0" y="20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832880" y="4005360"/>
            <a:ext cx="315720" cy="228600"/>
          </a:xfrm>
          <a:custGeom>
            <a:avLst/>
            <a:gdLst/>
            <a:ahLst/>
            <a:rect l="l" t="t" r="r" b="b"/>
            <a:pathLst>
              <a:path w="551" h="430">
                <a:moveTo>
                  <a:pt x="3" y="139"/>
                </a:moveTo>
                <a:lnTo>
                  <a:pt x="0" y="197"/>
                </a:lnTo>
                <a:lnTo>
                  <a:pt x="246" y="428"/>
                </a:lnTo>
                <a:lnTo>
                  <a:pt x="551" y="430"/>
                </a:lnTo>
                <a:lnTo>
                  <a:pt x="420" y="0"/>
                </a:lnTo>
                <a:lnTo>
                  <a:pt x="3" y="13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97760" y="2362320"/>
            <a:ext cx="826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s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99400" y="1944720"/>
            <a:ext cx="439560" cy="558720"/>
          </a:xfrm>
          <a:custGeom>
            <a:avLst/>
            <a:gdLst/>
            <a:ahLst/>
            <a:rect l="l" t="t" r="r" b="b"/>
            <a:pathLst>
              <a:path w="767" h="1056">
                <a:moveTo>
                  <a:pt x="4" y="903"/>
                </a:moveTo>
                <a:lnTo>
                  <a:pt x="161" y="985"/>
                </a:lnTo>
                <a:lnTo>
                  <a:pt x="493" y="1056"/>
                </a:lnTo>
                <a:lnTo>
                  <a:pt x="767" y="833"/>
                </a:lnTo>
                <a:lnTo>
                  <a:pt x="413" y="319"/>
                </a:lnTo>
                <a:lnTo>
                  <a:pt x="203" y="11"/>
                </a:lnTo>
                <a:lnTo>
                  <a:pt x="0" y="0"/>
                </a:lnTo>
                <a:lnTo>
                  <a:pt x="4" y="903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93000" y="2465280"/>
            <a:ext cx="190440" cy="327240"/>
          </a:xfrm>
          <a:custGeom>
            <a:avLst/>
            <a:gdLst/>
            <a:ahLst/>
            <a:rect l="l" t="t" r="r" b="b"/>
            <a:pathLst>
              <a:path w="334" h="617">
                <a:moveTo>
                  <a:pt x="0" y="0"/>
                </a:moveTo>
                <a:lnTo>
                  <a:pt x="2" y="521"/>
                </a:lnTo>
                <a:lnTo>
                  <a:pt x="312" y="617"/>
                </a:lnTo>
                <a:lnTo>
                  <a:pt x="334" y="70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30840" y="1936800"/>
            <a:ext cx="271440" cy="484200"/>
          </a:xfrm>
          <a:custGeom>
            <a:avLst/>
            <a:gdLst/>
            <a:ahLst/>
            <a:rect l="l" t="t" r="r" b="b"/>
            <a:pathLst>
              <a:path w="471" h="915">
                <a:moveTo>
                  <a:pt x="0" y="594"/>
                </a:moveTo>
                <a:lnTo>
                  <a:pt x="125" y="894"/>
                </a:lnTo>
                <a:lnTo>
                  <a:pt x="471" y="915"/>
                </a:lnTo>
                <a:lnTo>
                  <a:pt x="465" y="12"/>
                </a:lnTo>
                <a:lnTo>
                  <a:pt x="251" y="0"/>
                </a:lnTo>
                <a:lnTo>
                  <a:pt x="0" y="594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240" y="2522520"/>
            <a:ext cx="389160" cy="480960"/>
          </a:xfrm>
          <a:custGeom>
            <a:avLst/>
            <a:gdLst/>
            <a:ahLst/>
            <a:rect l="l" t="t" r="r" b="b"/>
            <a:pathLst>
              <a:path w="679" h="910">
                <a:moveTo>
                  <a:pt x="0" y="772"/>
                </a:moveTo>
                <a:lnTo>
                  <a:pt x="237" y="910"/>
                </a:lnTo>
                <a:lnTo>
                  <a:pt x="637" y="633"/>
                </a:lnTo>
                <a:lnTo>
                  <a:pt x="666" y="409"/>
                </a:lnTo>
                <a:lnTo>
                  <a:pt x="679" y="31"/>
                </a:lnTo>
                <a:lnTo>
                  <a:pt x="385" y="0"/>
                </a:lnTo>
                <a:lnTo>
                  <a:pt x="50" y="281"/>
                </a:lnTo>
                <a:lnTo>
                  <a:pt x="0" y="7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39920" y="2473200"/>
            <a:ext cx="311040" cy="301680"/>
          </a:xfrm>
          <a:custGeom>
            <a:avLst/>
            <a:gdLst/>
            <a:ahLst/>
            <a:rect l="l" t="t" r="r" b="b"/>
            <a:pathLst>
              <a:path w="542" h="572">
                <a:moveTo>
                  <a:pt x="347" y="572"/>
                </a:moveTo>
                <a:lnTo>
                  <a:pt x="530" y="321"/>
                </a:lnTo>
                <a:lnTo>
                  <a:pt x="542" y="162"/>
                </a:lnTo>
                <a:lnTo>
                  <a:pt x="457" y="0"/>
                </a:lnTo>
                <a:lnTo>
                  <a:pt x="209" y="25"/>
                </a:lnTo>
                <a:lnTo>
                  <a:pt x="13" y="125"/>
                </a:lnTo>
                <a:lnTo>
                  <a:pt x="0" y="498"/>
                </a:lnTo>
                <a:lnTo>
                  <a:pt x="347" y="5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98760" y="2421000"/>
            <a:ext cx="477720" cy="277920"/>
          </a:xfrm>
          <a:custGeom>
            <a:avLst/>
            <a:gdLst/>
            <a:ahLst/>
            <a:rect l="l" t="t" r="r" b="b"/>
            <a:pathLst>
              <a:path w="830" h="525">
                <a:moveTo>
                  <a:pt x="690" y="0"/>
                </a:moveTo>
                <a:lnTo>
                  <a:pt x="319" y="98"/>
                </a:lnTo>
                <a:lnTo>
                  <a:pt x="0" y="377"/>
                </a:lnTo>
                <a:lnTo>
                  <a:pt x="60" y="525"/>
                </a:lnTo>
                <a:lnTo>
                  <a:pt x="492" y="473"/>
                </a:lnTo>
                <a:lnTo>
                  <a:pt x="830" y="192"/>
                </a:lnTo>
                <a:lnTo>
                  <a:pt x="69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52520" y="2070000"/>
            <a:ext cx="538200" cy="416160"/>
          </a:xfrm>
          <a:custGeom>
            <a:avLst/>
            <a:gdLst/>
            <a:ahLst/>
            <a:rect l="l" t="t" r="r" b="b"/>
            <a:pathLst>
              <a:path w="940" h="786">
                <a:moveTo>
                  <a:pt x="433" y="761"/>
                </a:moveTo>
                <a:lnTo>
                  <a:pt x="543" y="462"/>
                </a:lnTo>
                <a:lnTo>
                  <a:pt x="940" y="288"/>
                </a:lnTo>
                <a:lnTo>
                  <a:pt x="724" y="0"/>
                </a:lnTo>
                <a:lnTo>
                  <a:pt x="603" y="5"/>
                </a:lnTo>
                <a:lnTo>
                  <a:pt x="408" y="26"/>
                </a:lnTo>
                <a:lnTo>
                  <a:pt x="275" y="47"/>
                </a:lnTo>
                <a:lnTo>
                  <a:pt x="111" y="88"/>
                </a:lnTo>
                <a:lnTo>
                  <a:pt x="0" y="124"/>
                </a:lnTo>
                <a:lnTo>
                  <a:pt x="193" y="786"/>
                </a:lnTo>
                <a:lnTo>
                  <a:pt x="433" y="76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76760" y="2039760"/>
            <a:ext cx="239760" cy="236880"/>
          </a:xfrm>
          <a:custGeom>
            <a:avLst/>
            <a:gdLst/>
            <a:ahLst/>
            <a:rect l="l" t="t" r="r" b="b"/>
            <a:pathLst>
              <a:path w="420" h="446">
                <a:moveTo>
                  <a:pt x="420" y="319"/>
                </a:moveTo>
                <a:lnTo>
                  <a:pt x="195" y="9"/>
                </a:lnTo>
                <a:lnTo>
                  <a:pt x="115" y="0"/>
                </a:lnTo>
                <a:lnTo>
                  <a:pt x="0" y="263"/>
                </a:lnTo>
                <a:lnTo>
                  <a:pt x="125" y="446"/>
                </a:lnTo>
                <a:lnTo>
                  <a:pt x="420" y="3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1949400"/>
            <a:ext cx="336600" cy="279360"/>
          </a:xfrm>
          <a:custGeom>
            <a:avLst/>
            <a:gdLst/>
            <a:ahLst/>
            <a:rect l="l" t="t" r="r" b="b"/>
            <a:pathLst>
              <a:path w="590" h="527">
                <a:moveTo>
                  <a:pt x="590" y="170"/>
                </a:moveTo>
                <a:lnTo>
                  <a:pt x="526" y="150"/>
                </a:lnTo>
                <a:lnTo>
                  <a:pt x="464" y="122"/>
                </a:lnTo>
                <a:lnTo>
                  <a:pt x="308" y="33"/>
                </a:lnTo>
                <a:lnTo>
                  <a:pt x="228" y="8"/>
                </a:lnTo>
                <a:lnTo>
                  <a:pt x="193" y="0"/>
                </a:lnTo>
                <a:lnTo>
                  <a:pt x="126" y="1"/>
                </a:lnTo>
                <a:lnTo>
                  <a:pt x="0" y="234"/>
                </a:lnTo>
                <a:lnTo>
                  <a:pt x="196" y="527"/>
                </a:lnTo>
                <a:lnTo>
                  <a:pt x="473" y="433"/>
                </a:lnTo>
                <a:lnTo>
                  <a:pt x="590" y="17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89240" y="2503440"/>
            <a:ext cx="488880" cy="331920"/>
          </a:xfrm>
          <a:custGeom>
            <a:avLst/>
            <a:gdLst/>
            <a:ahLst/>
            <a:rect l="l" t="t" r="r" b="b"/>
            <a:pathLst>
              <a:path w="854" h="628">
                <a:moveTo>
                  <a:pt x="289" y="628"/>
                </a:moveTo>
                <a:lnTo>
                  <a:pt x="755" y="521"/>
                </a:lnTo>
                <a:lnTo>
                  <a:pt x="854" y="262"/>
                </a:lnTo>
                <a:lnTo>
                  <a:pt x="558" y="0"/>
                </a:lnTo>
                <a:lnTo>
                  <a:pt x="349" y="245"/>
                </a:lnTo>
                <a:lnTo>
                  <a:pt x="27" y="228"/>
                </a:lnTo>
                <a:lnTo>
                  <a:pt x="0" y="407"/>
                </a:lnTo>
                <a:lnTo>
                  <a:pt x="289" y="62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6600" y="2209680"/>
            <a:ext cx="547560" cy="452520"/>
          </a:xfrm>
          <a:custGeom>
            <a:avLst/>
            <a:gdLst/>
            <a:ahLst/>
            <a:rect l="l" t="t" r="r" b="b"/>
            <a:pathLst>
              <a:path w="952" h="856">
                <a:moveTo>
                  <a:pt x="886" y="66"/>
                </a:moveTo>
                <a:lnTo>
                  <a:pt x="296" y="0"/>
                </a:lnTo>
                <a:lnTo>
                  <a:pt x="0" y="127"/>
                </a:lnTo>
                <a:lnTo>
                  <a:pt x="27" y="736"/>
                </a:lnTo>
                <a:lnTo>
                  <a:pt x="135" y="804"/>
                </a:lnTo>
                <a:lnTo>
                  <a:pt x="500" y="856"/>
                </a:lnTo>
                <a:lnTo>
                  <a:pt x="952" y="325"/>
                </a:lnTo>
                <a:lnTo>
                  <a:pt x="886" y="6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16520" y="4797360"/>
            <a:ext cx="901800" cy="604800"/>
          </a:xfrm>
          <a:custGeom>
            <a:avLst/>
            <a:gdLst/>
            <a:ahLst/>
            <a:rect l="l" t="t" r="r" b="b"/>
            <a:pathLst>
              <a:path w="1576" h="1142">
                <a:moveTo>
                  <a:pt x="1366" y="649"/>
                </a:moveTo>
                <a:lnTo>
                  <a:pt x="1576" y="539"/>
                </a:lnTo>
                <a:lnTo>
                  <a:pt x="1568" y="446"/>
                </a:lnTo>
                <a:lnTo>
                  <a:pt x="1567" y="361"/>
                </a:lnTo>
                <a:lnTo>
                  <a:pt x="1134" y="234"/>
                </a:lnTo>
                <a:lnTo>
                  <a:pt x="749" y="114"/>
                </a:lnTo>
                <a:lnTo>
                  <a:pt x="412" y="0"/>
                </a:lnTo>
                <a:lnTo>
                  <a:pt x="0" y="551"/>
                </a:lnTo>
                <a:lnTo>
                  <a:pt x="30" y="666"/>
                </a:lnTo>
                <a:lnTo>
                  <a:pt x="35" y="771"/>
                </a:lnTo>
                <a:lnTo>
                  <a:pt x="538" y="1142"/>
                </a:lnTo>
                <a:lnTo>
                  <a:pt x="1071" y="810"/>
                </a:lnTo>
                <a:lnTo>
                  <a:pt x="1366" y="6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84840" y="5257800"/>
            <a:ext cx="357120" cy="434880"/>
          </a:xfrm>
          <a:custGeom>
            <a:avLst/>
            <a:gdLst/>
            <a:ahLst/>
            <a:rect l="l" t="t" r="r" b="b"/>
            <a:pathLst>
              <a:path w="625" h="822">
                <a:moveTo>
                  <a:pt x="358" y="694"/>
                </a:moveTo>
                <a:lnTo>
                  <a:pt x="431" y="639"/>
                </a:lnTo>
                <a:lnTo>
                  <a:pt x="497" y="558"/>
                </a:lnTo>
                <a:lnTo>
                  <a:pt x="542" y="498"/>
                </a:lnTo>
                <a:lnTo>
                  <a:pt x="582" y="427"/>
                </a:lnTo>
                <a:lnTo>
                  <a:pt x="625" y="370"/>
                </a:lnTo>
                <a:lnTo>
                  <a:pt x="122" y="0"/>
                </a:lnTo>
                <a:lnTo>
                  <a:pt x="114" y="36"/>
                </a:lnTo>
                <a:lnTo>
                  <a:pt x="100" y="75"/>
                </a:lnTo>
                <a:lnTo>
                  <a:pt x="81" y="111"/>
                </a:lnTo>
                <a:lnTo>
                  <a:pt x="49" y="156"/>
                </a:lnTo>
                <a:lnTo>
                  <a:pt x="74" y="512"/>
                </a:lnTo>
                <a:lnTo>
                  <a:pt x="0" y="585"/>
                </a:lnTo>
                <a:lnTo>
                  <a:pt x="1" y="642"/>
                </a:lnTo>
                <a:lnTo>
                  <a:pt x="6" y="678"/>
                </a:lnTo>
                <a:lnTo>
                  <a:pt x="18" y="741"/>
                </a:lnTo>
                <a:lnTo>
                  <a:pt x="37" y="822"/>
                </a:lnTo>
                <a:lnTo>
                  <a:pt x="242" y="746"/>
                </a:lnTo>
                <a:lnTo>
                  <a:pt x="358" y="694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00880" y="4581360"/>
            <a:ext cx="450720" cy="508320"/>
          </a:xfrm>
          <a:custGeom>
            <a:avLst/>
            <a:gdLst/>
            <a:ahLst/>
            <a:rect l="l" t="t" r="r" b="b"/>
            <a:pathLst>
              <a:path w="787" h="960">
                <a:moveTo>
                  <a:pt x="429" y="0"/>
                </a:moveTo>
                <a:lnTo>
                  <a:pt x="89" y="157"/>
                </a:lnTo>
                <a:lnTo>
                  <a:pt x="143" y="403"/>
                </a:lnTo>
                <a:lnTo>
                  <a:pt x="0" y="898"/>
                </a:lnTo>
                <a:lnTo>
                  <a:pt x="347" y="952"/>
                </a:lnTo>
                <a:lnTo>
                  <a:pt x="377" y="957"/>
                </a:lnTo>
                <a:lnTo>
                  <a:pt x="380" y="960"/>
                </a:lnTo>
                <a:lnTo>
                  <a:pt x="787" y="419"/>
                </a:lnTo>
                <a:lnTo>
                  <a:pt x="42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84880" y="4581360"/>
            <a:ext cx="269640" cy="484200"/>
          </a:xfrm>
          <a:custGeom>
            <a:avLst/>
            <a:gdLst/>
            <a:ahLst/>
            <a:rect l="l" t="t" r="r" b="b"/>
            <a:pathLst>
              <a:path w="471" h="916">
                <a:moveTo>
                  <a:pt x="259" y="0"/>
                </a:moveTo>
                <a:lnTo>
                  <a:pt x="8" y="95"/>
                </a:lnTo>
                <a:lnTo>
                  <a:pt x="0" y="210"/>
                </a:lnTo>
                <a:lnTo>
                  <a:pt x="192" y="376"/>
                </a:lnTo>
                <a:lnTo>
                  <a:pt x="226" y="902"/>
                </a:lnTo>
                <a:lnTo>
                  <a:pt x="327" y="916"/>
                </a:lnTo>
                <a:lnTo>
                  <a:pt x="471" y="422"/>
                </a:lnTo>
                <a:lnTo>
                  <a:pt x="416" y="176"/>
                </a:lnTo>
                <a:lnTo>
                  <a:pt x="25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4520" y="4076640"/>
            <a:ext cx="669960" cy="577800"/>
          </a:xfrm>
          <a:custGeom>
            <a:avLst/>
            <a:gdLst/>
            <a:ahLst/>
            <a:rect l="l" t="t" r="r" b="b"/>
            <a:pathLst>
              <a:path w="1171" h="1092">
                <a:moveTo>
                  <a:pt x="1171" y="640"/>
                </a:moveTo>
                <a:lnTo>
                  <a:pt x="816" y="447"/>
                </a:lnTo>
                <a:lnTo>
                  <a:pt x="578" y="427"/>
                </a:lnTo>
                <a:lnTo>
                  <a:pt x="104" y="0"/>
                </a:lnTo>
                <a:lnTo>
                  <a:pt x="0" y="142"/>
                </a:lnTo>
                <a:lnTo>
                  <a:pt x="162" y="372"/>
                </a:lnTo>
                <a:lnTo>
                  <a:pt x="126" y="901"/>
                </a:lnTo>
                <a:lnTo>
                  <a:pt x="742" y="1092"/>
                </a:lnTo>
                <a:lnTo>
                  <a:pt x="991" y="998"/>
                </a:lnTo>
                <a:lnTo>
                  <a:pt x="1171" y="64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33400">
            <a:off x="5097240" y="3933720"/>
            <a:ext cx="718920" cy="465120"/>
          </a:xfrm>
          <a:custGeom>
            <a:avLst/>
            <a:gdLst/>
            <a:ahLst/>
            <a:rect l="l" t="t" r="r" b="b"/>
            <a:pathLst>
              <a:path w="1109" h="878">
                <a:moveTo>
                  <a:pt x="1109" y="755"/>
                </a:moveTo>
                <a:lnTo>
                  <a:pt x="1105" y="665"/>
                </a:lnTo>
                <a:lnTo>
                  <a:pt x="838" y="462"/>
                </a:lnTo>
                <a:lnTo>
                  <a:pt x="969" y="233"/>
                </a:lnTo>
                <a:lnTo>
                  <a:pt x="774" y="30"/>
                </a:lnTo>
                <a:lnTo>
                  <a:pt x="517" y="0"/>
                </a:lnTo>
                <a:lnTo>
                  <a:pt x="382" y="169"/>
                </a:lnTo>
                <a:lnTo>
                  <a:pt x="85" y="102"/>
                </a:lnTo>
                <a:lnTo>
                  <a:pt x="0" y="263"/>
                </a:lnTo>
                <a:lnTo>
                  <a:pt x="443" y="664"/>
                </a:lnTo>
                <a:lnTo>
                  <a:pt x="681" y="684"/>
                </a:lnTo>
                <a:lnTo>
                  <a:pt x="1037" y="878"/>
                </a:lnTo>
                <a:lnTo>
                  <a:pt x="1109" y="755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05600" y="4653000"/>
            <a:ext cx="466560" cy="285840"/>
          </a:xfrm>
          <a:custGeom>
            <a:avLst/>
            <a:gdLst/>
            <a:ahLst/>
            <a:rect l="l" t="t" r="r" b="b"/>
            <a:pathLst>
              <a:path w="812" h="542">
                <a:moveTo>
                  <a:pt x="279" y="0"/>
                </a:moveTo>
                <a:lnTo>
                  <a:pt x="0" y="282"/>
                </a:lnTo>
                <a:lnTo>
                  <a:pt x="350" y="399"/>
                </a:lnTo>
                <a:lnTo>
                  <a:pt x="812" y="542"/>
                </a:lnTo>
                <a:lnTo>
                  <a:pt x="775" y="172"/>
                </a:lnTo>
                <a:lnTo>
                  <a:pt x="27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5240" y="1773360"/>
            <a:ext cx="333360" cy="330120"/>
          </a:xfrm>
          <a:custGeom>
            <a:avLst/>
            <a:gdLst/>
            <a:ahLst/>
            <a:rect l="l" t="t" r="r" b="b"/>
            <a:pathLst>
              <a:path w="582" h="625">
                <a:moveTo>
                  <a:pt x="485" y="529"/>
                </a:moveTo>
                <a:lnTo>
                  <a:pt x="582" y="494"/>
                </a:lnTo>
                <a:lnTo>
                  <a:pt x="561" y="415"/>
                </a:lnTo>
                <a:lnTo>
                  <a:pt x="543" y="314"/>
                </a:lnTo>
                <a:lnTo>
                  <a:pt x="516" y="65"/>
                </a:lnTo>
                <a:lnTo>
                  <a:pt x="470" y="56"/>
                </a:lnTo>
                <a:lnTo>
                  <a:pt x="412" y="44"/>
                </a:lnTo>
                <a:lnTo>
                  <a:pt x="343" y="26"/>
                </a:lnTo>
                <a:lnTo>
                  <a:pt x="263" y="0"/>
                </a:lnTo>
                <a:lnTo>
                  <a:pt x="126" y="253"/>
                </a:lnTo>
                <a:lnTo>
                  <a:pt x="0" y="467"/>
                </a:lnTo>
                <a:lnTo>
                  <a:pt x="37" y="625"/>
                </a:lnTo>
                <a:lnTo>
                  <a:pt x="99" y="613"/>
                </a:lnTo>
                <a:lnTo>
                  <a:pt x="485" y="5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1040" y="1919160"/>
            <a:ext cx="509400" cy="381240"/>
          </a:xfrm>
          <a:custGeom>
            <a:avLst/>
            <a:gdLst/>
            <a:ahLst/>
            <a:rect l="l" t="t" r="r" b="b"/>
            <a:pathLst>
              <a:path w="888" h="721">
                <a:moveTo>
                  <a:pt x="732" y="366"/>
                </a:moveTo>
                <a:lnTo>
                  <a:pt x="888" y="256"/>
                </a:lnTo>
                <a:lnTo>
                  <a:pt x="853" y="108"/>
                </a:lnTo>
                <a:lnTo>
                  <a:pt x="364" y="0"/>
                </a:lnTo>
                <a:lnTo>
                  <a:pt x="108" y="80"/>
                </a:lnTo>
                <a:lnTo>
                  <a:pt x="97" y="190"/>
                </a:lnTo>
                <a:lnTo>
                  <a:pt x="85" y="324"/>
                </a:lnTo>
                <a:lnTo>
                  <a:pt x="47" y="533"/>
                </a:lnTo>
                <a:lnTo>
                  <a:pt x="0" y="721"/>
                </a:lnTo>
                <a:lnTo>
                  <a:pt x="269" y="688"/>
                </a:lnTo>
                <a:lnTo>
                  <a:pt x="732" y="36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8880" y="2276640"/>
            <a:ext cx="255600" cy="388800"/>
          </a:xfrm>
          <a:custGeom>
            <a:avLst/>
            <a:gdLst/>
            <a:ahLst/>
            <a:rect l="l" t="t" r="r" b="b"/>
            <a:pathLst>
              <a:path w="445" h="734">
                <a:moveTo>
                  <a:pt x="439" y="424"/>
                </a:moveTo>
                <a:lnTo>
                  <a:pt x="434" y="280"/>
                </a:lnTo>
                <a:lnTo>
                  <a:pt x="418" y="0"/>
                </a:lnTo>
                <a:lnTo>
                  <a:pt x="147" y="33"/>
                </a:lnTo>
                <a:lnTo>
                  <a:pt x="121" y="120"/>
                </a:lnTo>
                <a:lnTo>
                  <a:pt x="83" y="244"/>
                </a:lnTo>
                <a:lnTo>
                  <a:pt x="0" y="448"/>
                </a:lnTo>
                <a:lnTo>
                  <a:pt x="29" y="486"/>
                </a:lnTo>
                <a:lnTo>
                  <a:pt x="65" y="552"/>
                </a:lnTo>
                <a:lnTo>
                  <a:pt x="74" y="608"/>
                </a:lnTo>
                <a:lnTo>
                  <a:pt x="82" y="661"/>
                </a:lnTo>
                <a:lnTo>
                  <a:pt x="81" y="712"/>
                </a:lnTo>
                <a:lnTo>
                  <a:pt x="78" y="722"/>
                </a:lnTo>
                <a:lnTo>
                  <a:pt x="246" y="734"/>
                </a:lnTo>
                <a:lnTo>
                  <a:pt x="445" y="544"/>
                </a:lnTo>
                <a:lnTo>
                  <a:pt x="439" y="424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6560" y="2049480"/>
            <a:ext cx="412920" cy="595440"/>
          </a:xfrm>
          <a:custGeom>
            <a:avLst/>
            <a:gdLst/>
            <a:ahLst/>
            <a:rect l="l" t="t" r="r" b="b"/>
            <a:pathLst>
              <a:path w="720" h="1125">
                <a:moveTo>
                  <a:pt x="720" y="263"/>
                </a:moveTo>
                <a:lnTo>
                  <a:pt x="675" y="0"/>
                </a:lnTo>
                <a:lnTo>
                  <a:pt x="618" y="10"/>
                </a:lnTo>
                <a:lnTo>
                  <a:pt x="0" y="440"/>
                </a:lnTo>
                <a:lnTo>
                  <a:pt x="29" y="986"/>
                </a:lnTo>
                <a:lnTo>
                  <a:pt x="285" y="1125"/>
                </a:lnTo>
                <a:lnTo>
                  <a:pt x="720" y="2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662200"/>
            <a:ext cx="554040" cy="604800"/>
          </a:xfrm>
          <a:custGeom>
            <a:avLst/>
            <a:gdLst/>
            <a:ahLst/>
            <a:rect l="l" t="t" r="r" b="b"/>
            <a:pathLst>
              <a:path w="967" h="1143">
                <a:moveTo>
                  <a:pt x="639" y="823"/>
                </a:moveTo>
                <a:lnTo>
                  <a:pt x="967" y="590"/>
                </a:lnTo>
                <a:lnTo>
                  <a:pt x="846" y="18"/>
                </a:lnTo>
                <a:lnTo>
                  <a:pt x="699" y="6"/>
                </a:lnTo>
                <a:lnTo>
                  <a:pt x="678" y="5"/>
                </a:lnTo>
                <a:lnTo>
                  <a:pt x="673" y="0"/>
                </a:lnTo>
                <a:lnTo>
                  <a:pt x="631" y="20"/>
                </a:lnTo>
                <a:lnTo>
                  <a:pt x="532" y="88"/>
                </a:lnTo>
                <a:lnTo>
                  <a:pt x="437" y="182"/>
                </a:lnTo>
                <a:lnTo>
                  <a:pt x="376" y="249"/>
                </a:lnTo>
                <a:lnTo>
                  <a:pt x="314" y="334"/>
                </a:lnTo>
                <a:lnTo>
                  <a:pt x="261" y="410"/>
                </a:lnTo>
                <a:lnTo>
                  <a:pt x="205" y="490"/>
                </a:lnTo>
                <a:lnTo>
                  <a:pt x="132" y="618"/>
                </a:lnTo>
                <a:lnTo>
                  <a:pt x="0" y="854"/>
                </a:lnTo>
                <a:lnTo>
                  <a:pt x="26" y="1143"/>
                </a:lnTo>
                <a:lnTo>
                  <a:pt x="199" y="1057"/>
                </a:lnTo>
                <a:lnTo>
                  <a:pt x="354" y="734"/>
                </a:lnTo>
                <a:lnTo>
                  <a:pt x="579" y="663"/>
                </a:lnTo>
                <a:lnTo>
                  <a:pt x="639" y="82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9720" y="2570040"/>
            <a:ext cx="666720" cy="581040"/>
          </a:xfrm>
          <a:custGeom>
            <a:avLst/>
            <a:gdLst/>
            <a:ahLst/>
            <a:rect l="l" t="t" r="r" b="b"/>
            <a:pathLst>
              <a:path w="1164" h="1097">
                <a:moveTo>
                  <a:pt x="1130" y="597"/>
                </a:moveTo>
                <a:lnTo>
                  <a:pt x="746" y="402"/>
                </a:lnTo>
                <a:lnTo>
                  <a:pt x="635" y="330"/>
                </a:lnTo>
                <a:lnTo>
                  <a:pt x="636" y="331"/>
                </a:lnTo>
                <a:lnTo>
                  <a:pt x="518" y="239"/>
                </a:lnTo>
                <a:lnTo>
                  <a:pt x="453" y="141"/>
                </a:lnTo>
                <a:lnTo>
                  <a:pt x="197" y="0"/>
                </a:lnTo>
                <a:lnTo>
                  <a:pt x="0" y="190"/>
                </a:lnTo>
                <a:lnTo>
                  <a:pt x="121" y="769"/>
                </a:lnTo>
                <a:lnTo>
                  <a:pt x="649" y="1097"/>
                </a:lnTo>
                <a:lnTo>
                  <a:pt x="1164" y="997"/>
                </a:lnTo>
                <a:lnTo>
                  <a:pt x="1130" y="59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6400" y="1649520"/>
            <a:ext cx="432000" cy="331560"/>
          </a:xfrm>
          <a:custGeom>
            <a:avLst/>
            <a:gdLst/>
            <a:ahLst/>
            <a:rect l="l" t="t" r="r" b="b"/>
            <a:pathLst>
              <a:path w="752" h="626">
                <a:moveTo>
                  <a:pt x="752" y="155"/>
                </a:moveTo>
                <a:lnTo>
                  <a:pt x="726" y="143"/>
                </a:lnTo>
                <a:lnTo>
                  <a:pt x="685" y="120"/>
                </a:lnTo>
                <a:lnTo>
                  <a:pt x="659" y="98"/>
                </a:lnTo>
                <a:lnTo>
                  <a:pt x="636" y="71"/>
                </a:lnTo>
                <a:lnTo>
                  <a:pt x="618" y="46"/>
                </a:lnTo>
                <a:lnTo>
                  <a:pt x="598" y="0"/>
                </a:lnTo>
                <a:lnTo>
                  <a:pt x="58" y="33"/>
                </a:lnTo>
                <a:lnTo>
                  <a:pt x="0" y="522"/>
                </a:lnTo>
                <a:lnTo>
                  <a:pt x="486" y="626"/>
                </a:lnTo>
                <a:lnTo>
                  <a:pt x="639" y="362"/>
                </a:lnTo>
                <a:lnTo>
                  <a:pt x="752" y="15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2187720"/>
            <a:ext cx="465120" cy="698400"/>
          </a:xfrm>
          <a:custGeom>
            <a:avLst/>
            <a:gdLst/>
            <a:ahLst/>
            <a:rect l="l" t="t" r="r" b="b"/>
            <a:pathLst>
              <a:path w="814" h="1321">
                <a:moveTo>
                  <a:pt x="814" y="40"/>
                </a:moveTo>
                <a:lnTo>
                  <a:pt x="437" y="0"/>
                </a:lnTo>
                <a:lnTo>
                  <a:pt x="0" y="866"/>
                </a:lnTo>
                <a:lnTo>
                  <a:pt x="64" y="963"/>
                </a:lnTo>
                <a:lnTo>
                  <a:pt x="174" y="1049"/>
                </a:lnTo>
                <a:lnTo>
                  <a:pt x="302" y="1133"/>
                </a:lnTo>
                <a:lnTo>
                  <a:pt x="676" y="1321"/>
                </a:lnTo>
                <a:lnTo>
                  <a:pt x="656" y="1176"/>
                </a:lnTo>
                <a:lnTo>
                  <a:pt x="626" y="1028"/>
                </a:lnTo>
                <a:lnTo>
                  <a:pt x="813" y="755"/>
                </a:lnTo>
                <a:lnTo>
                  <a:pt x="814" y="4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36520" y="1916280"/>
            <a:ext cx="833400" cy="545760"/>
          </a:xfrm>
          <a:custGeom>
            <a:avLst/>
            <a:gdLst/>
            <a:ahLst/>
            <a:rect l="l" t="t" r="r" b="b"/>
            <a:pathLst>
              <a:path w="1453" h="1032">
                <a:moveTo>
                  <a:pt x="1453" y="543"/>
                </a:moveTo>
                <a:lnTo>
                  <a:pt x="1400" y="75"/>
                </a:lnTo>
                <a:lnTo>
                  <a:pt x="1339" y="59"/>
                </a:lnTo>
                <a:lnTo>
                  <a:pt x="1273" y="56"/>
                </a:lnTo>
                <a:lnTo>
                  <a:pt x="1209" y="56"/>
                </a:lnTo>
                <a:lnTo>
                  <a:pt x="1130" y="18"/>
                </a:lnTo>
                <a:lnTo>
                  <a:pt x="1049" y="0"/>
                </a:lnTo>
                <a:lnTo>
                  <a:pt x="959" y="10"/>
                </a:lnTo>
                <a:lnTo>
                  <a:pt x="867" y="70"/>
                </a:lnTo>
                <a:lnTo>
                  <a:pt x="802" y="141"/>
                </a:lnTo>
                <a:lnTo>
                  <a:pt x="734" y="223"/>
                </a:lnTo>
                <a:lnTo>
                  <a:pt x="605" y="221"/>
                </a:lnTo>
                <a:lnTo>
                  <a:pt x="522" y="206"/>
                </a:lnTo>
                <a:lnTo>
                  <a:pt x="495" y="200"/>
                </a:lnTo>
                <a:lnTo>
                  <a:pt x="488" y="184"/>
                </a:lnTo>
                <a:lnTo>
                  <a:pt x="382" y="221"/>
                </a:lnTo>
                <a:lnTo>
                  <a:pt x="0" y="305"/>
                </a:lnTo>
                <a:lnTo>
                  <a:pt x="42" y="563"/>
                </a:lnTo>
                <a:lnTo>
                  <a:pt x="422" y="604"/>
                </a:lnTo>
                <a:lnTo>
                  <a:pt x="422" y="1032"/>
                </a:lnTo>
                <a:lnTo>
                  <a:pt x="1076" y="870"/>
                </a:lnTo>
                <a:lnTo>
                  <a:pt x="1130" y="755"/>
                </a:lnTo>
                <a:lnTo>
                  <a:pt x="1453" y="54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65120" y="2351160"/>
            <a:ext cx="419400" cy="268200"/>
          </a:xfrm>
          <a:custGeom>
            <a:avLst/>
            <a:gdLst/>
            <a:ahLst/>
            <a:rect l="l" t="t" r="r" b="b"/>
            <a:pathLst>
              <a:path w="729" h="508">
                <a:moveTo>
                  <a:pt x="655" y="0"/>
                </a:moveTo>
                <a:lnTo>
                  <a:pt x="1" y="160"/>
                </a:lnTo>
                <a:lnTo>
                  <a:pt x="0" y="447"/>
                </a:lnTo>
                <a:lnTo>
                  <a:pt x="406" y="508"/>
                </a:lnTo>
                <a:lnTo>
                  <a:pt x="729" y="226"/>
                </a:lnTo>
                <a:lnTo>
                  <a:pt x="655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38440" y="1930320"/>
            <a:ext cx="626760" cy="608040"/>
          </a:xfrm>
          <a:custGeom>
            <a:avLst/>
            <a:gdLst/>
            <a:ahLst/>
            <a:rect l="l" t="t" r="r" b="b"/>
            <a:pathLst>
              <a:path w="1090" h="1148">
                <a:moveTo>
                  <a:pt x="570" y="193"/>
                </a:moveTo>
                <a:lnTo>
                  <a:pt x="437" y="76"/>
                </a:lnTo>
                <a:lnTo>
                  <a:pt x="394" y="36"/>
                </a:lnTo>
                <a:lnTo>
                  <a:pt x="327" y="0"/>
                </a:lnTo>
                <a:lnTo>
                  <a:pt x="379" y="468"/>
                </a:lnTo>
                <a:lnTo>
                  <a:pt x="56" y="680"/>
                </a:lnTo>
                <a:lnTo>
                  <a:pt x="0" y="789"/>
                </a:lnTo>
                <a:lnTo>
                  <a:pt x="80" y="1021"/>
                </a:lnTo>
                <a:lnTo>
                  <a:pt x="448" y="925"/>
                </a:lnTo>
                <a:lnTo>
                  <a:pt x="590" y="1117"/>
                </a:lnTo>
                <a:lnTo>
                  <a:pt x="889" y="1148"/>
                </a:lnTo>
                <a:lnTo>
                  <a:pt x="1090" y="1045"/>
                </a:lnTo>
                <a:lnTo>
                  <a:pt x="896" y="385"/>
                </a:lnTo>
                <a:lnTo>
                  <a:pt x="831" y="156"/>
                </a:lnTo>
                <a:lnTo>
                  <a:pt x="570" y="193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57480" y="2585880"/>
            <a:ext cx="474480" cy="646200"/>
          </a:xfrm>
          <a:custGeom>
            <a:avLst/>
            <a:gdLst/>
            <a:ahLst/>
            <a:rect l="l" t="t" r="r" b="b"/>
            <a:pathLst>
              <a:path w="828" h="1220">
                <a:moveTo>
                  <a:pt x="595" y="63"/>
                </a:moveTo>
                <a:lnTo>
                  <a:pt x="192" y="0"/>
                </a:lnTo>
                <a:lnTo>
                  <a:pt x="0" y="274"/>
                </a:lnTo>
                <a:lnTo>
                  <a:pt x="31" y="413"/>
                </a:lnTo>
                <a:lnTo>
                  <a:pt x="49" y="571"/>
                </a:lnTo>
                <a:lnTo>
                  <a:pt x="85" y="967"/>
                </a:lnTo>
                <a:lnTo>
                  <a:pt x="436" y="1220"/>
                </a:lnTo>
                <a:lnTo>
                  <a:pt x="532" y="764"/>
                </a:lnTo>
                <a:lnTo>
                  <a:pt x="782" y="666"/>
                </a:lnTo>
                <a:lnTo>
                  <a:pt x="828" y="388"/>
                </a:lnTo>
                <a:lnTo>
                  <a:pt x="649" y="346"/>
                </a:lnTo>
                <a:lnTo>
                  <a:pt x="654" y="205"/>
                </a:lnTo>
                <a:lnTo>
                  <a:pt x="595" y="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06600" y="2670120"/>
            <a:ext cx="377640" cy="561960"/>
          </a:xfrm>
          <a:custGeom>
            <a:avLst/>
            <a:gdLst/>
            <a:ahLst/>
            <a:rect l="l" t="t" r="r" b="b"/>
            <a:pathLst>
              <a:path w="660" h="1064">
                <a:moveTo>
                  <a:pt x="216" y="192"/>
                </a:moveTo>
                <a:lnTo>
                  <a:pt x="391" y="228"/>
                </a:lnTo>
                <a:lnTo>
                  <a:pt x="344" y="512"/>
                </a:lnTo>
                <a:lnTo>
                  <a:pt x="97" y="609"/>
                </a:lnTo>
                <a:lnTo>
                  <a:pt x="0" y="1060"/>
                </a:lnTo>
                <a:lnTo>
                  <a:pt x="355" y="1064"/>
                </a:lnTo>
                <a:lnTo>
                  <a:pt x="610" y="488"/>
                </a:lnTo>
                <a:lnTo>
                  <a:pt x="660" y="0"/>
                </a:lnTo>
                <a:lnTo>
                  <a:pt x="219" y="54"/>
                </a:lnTo>
                <a:lnTo>
                  <a:pt x="216" y="19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920" y="3013200"/>
            <a:ext cx="428760" cy="466560"/>
          </a:xfrm>
          <a:custGeom>
            <a:avLst/>
            <a:gdLst/>
            <a:ahLst/>
            <a:rect l="l" t="t" r="r" b="b"/>
            <a:pathLst>
              <a:path w="747" h="882">
                <a:moveTo>
                  <a:pt x="553" y="619"/>
                </a:moveTo>
                <a:lnTo>
                  <a:pt x="612" y="268"/>
                </a:lnTo>
                <a:lnTo>
                  <a:pt x="747" y="158"/>
                </a:lnTo>
                <a:lnTo>
                  <a:pt x="690" y="0"/>
                </a:lnTo>
                <a:lnTo>
                  <a:pt x="467" y="71"/>
                </a:lnTo>
                <a:lnTo>
                  <a:pt x="311" y="394"/>
                </a:lnTo>
                <a:lnTo>
                  <a:pt x="131" y="483"/>
                </a:lnTo>
                <a:lnTo>
                  <a:pt x="15" y="549"/>
                </a:lnTo>
                <a:lnTo>
                  <a:pt x="8" y="554"/>
                </a:lnTo>
                <a:lnTo>
                  <a:pt x="2" y="596"/>
                </a:lnTo>
                <a:lnTo>
                  <a:pt x="0" y="664"/>
                </a:lnTo>
                <a:lnTo>
                  <a:pt x="6" y="731"/>
                </a:lnTo>
                <a:lnTo>
                  <a:pt x="25" y="882"/>
                </a:lnTo>
                <a:lnTo>
                  <a:pt x="89" y="869"/>
                </a:lnTo>
                <a:lnTo>
                  <a:pt x="181" y="829"/>
                </a:lnTo>
                <a:lnTo>
                  <a:pt x="242" y="795"/>
                </a:lnTo>
                <a:lnTo>
                  <a:pt x="303" y="752"/>
                </a:lnTo>
                <a:lnTo>
                  <a:pt x="407" y="682"/>
                </a:lnTo>
                <a:lnTo>
                  <a:pt x="492" y="640"/>
                </a:lnTo>
                <a:lnTo>
                  <a:pt x="553" y="6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6440" y="3156120"/>
            <a:ext cx="450720" cy="299880"/>
          </a:xfrm>
          <a:custGeom>
            <a:avLst/>
            <a:gdLst/>
            <a:ahLst/>
            <a:rect l="l" t="t" r="r" b="b"/>
            <a:pathLst>
              <a:path w="786" h="568">
                <a:moveTo>
                  <a:pt x="737" y="568"/>
                </a:moveTo>
                <a:lnTo>
                  <a:pt x="786" y="451"/>
                </a:lnTo>
                <a:lnTo>
                  <a:pt x="58" y="0"/>
                </a:lnTo>
                <a:lnTo>
                  <a:pt x="0" y="349"/>
                </a:lnTo>
                <a:lnTo>
                  <a:pt x="23" y="345"/>
                </a:lnTo>
                <a:lnTo>
                  <a:pt x="102" y="338"/>
                </a:lnTo>
                <a:lnTo>
                  <a:pt x="737" y="56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8120" y="2978280"/>
            <a:ext cx="577800" cy="415800"/>
          </a:xfrm>
          <a:custGeom>
            <a:avLst/>
            <a:gdLst/>
            <a:ahLst/>
            <a:rect l="l" t="t" r="r" b="b"/>
            <a:pathLst>
              <a:path w="1007" h="787">
                <a:moveTo>
                  <a:pt x="1007" y="729"/>
                </a:moveTo>
                <a:lnTo>
                  <a:pt x="997" y="327"/>
                </a:lnTo>
                <a:lnTo>
                  <a:pt x="460" y="0"/>
                </a:lnTo>
                <a:lnTo>
                  <a:pt x="137" y="225"/>
                </a:lnTo>
                <a:lnTo>
                  <a:pt x="0" y="337"/>
                </a:lnTo>
                <a:lnTo>
                  <a:pt x="728" y="787"/>
                </a:lnTo>
                <a:lnTo>
                  <a:pt x="1007" y="7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3363840"/>
            <a:ext cx="412920" cy="455760"/>
          </a:xfrm>
          <a:custGeom>
            <a:avLst/>
            <a:gdLst/>
            <a:ahLst/>
            <a:rect l="l" t="t" r="r" b="b"/>
            <a:pathLst>
              <a:path w="720" h="861">
                <a:moveTo>
                  <a:pt x="328" y="0"/>
                </a:moveTo>
                <a:lnTo>
                  <a:pt x="50" y="58"/>
                </a:lnTo>
                <a:lnTo>
                  <a:pt x="0" y="177"/>
                </a:lnTo>
                <a:lnTo>
                  <a:pt x="142" y="628"/>
                </a:lnTo>
                <a:lnTo>
                  <a:pt x="210" y="673"/>
                </a:lnTo>
                <a:lnTo>
                  <a:pt x="289" y="732"/>
                </a:lnTo>
                <a:lnTo>
                  <a:pt x="373" y="786"/>
                </a:lnTo>
                <a:lnTo>
                  <a:pt x="451" y="829"/>
                </a:lnTo>
                <a:lnTo>
                  <a:pt x="530" y="855"/>
                </a:lnTo>
                <a:lnTo>
                  <a:pt x="590" y="861"/>
                </a:lnTo>
                <a:lnTo>
                  <a:pt x="648" y="858"/>
                </a:lnTo>
                <a:lnTo>
                  <a:pt x="720" y="834"/>
                </a:lnTo>
                <a:lnTo>
                  <a:pt x="667" y="710"/>
                </a:lnTo>
                <a:lnTo>
                  <a:pt x="433" y="660"/>
                </a:lnTo>
                <a:lnTo>
                  <a:pt x="367" y="45"/>
                </a:lnTo>
                <a:lnTo>
                  <a:pt x="328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36800" y="3387600"/>
            <a:ext cx="338040" cy="351000"/>
          </a:xfrm>
          <a:custGeom>
            <a:avLst/>
            <a:gdLst/>
            <a:ahLst/>
            <a:rect l="l" t="t" r="r" b="b"/>
            <a:pathLst>
              <a:path w="587" h="664">
                <a:moveTo>
                  <a:pt x="587" y="136"/>
                </a:moveTo>
                <a:lnTo>
                  <a:pt x="0" y="0"/>
                </a:lnTo>
                <a:lnTo>
                  <a:pt x="66" y="614"/>
                </a:lnTo>
                <a:lnTo>
                  <a:pt x="300" y="664"/>
                </a:lnTo>
                <a:lnTo>
                  <a:pt x="587" y="1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09800" y="3098880"/>
            <a:ext cx="496800" cy="361800"/>
          </a:xfrm>
          <a:custGeom>
            <a:avLst/>
            <a:gdLst/>
            <a:ahLst/>
            <a:rect l="l" t="t" r="r" b="b"/>
            <a:pathLst>
              <a:path w="868" h="685">
                <a:moveTo>
                  <a:pt x="868" y="252"/>
                </a:moveTo>
                <a:lnTo>
                  <a:pt x="514" y="0"/>
                </a:lnTo>
                <a:lnTo>
                  <a:pt x="0" y="102"/>
                </a:lnTo>
                <a:lnTo>
                  <a:pt x="11" y="502"/>
                </a:lnTo>
                <a:lnTo>
                  <a:pt x="52" y="548"/>
                </a:lnTo>
                <a:lnTo>
                  <a:pt x="639" y="685"/>
                </a:lnTo>
                <a:lnTo>
                  <a:pt x="868" y="25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09600" y="3459240"/>
            <a:ext cx="297000" cy="349200"/>
          </a:xfrm>
          <a:custGeom>
            <a:avLst/>
            <a:gdLst/>
            <a:ahLst/>
            <a:rect l="l" t="t" r="r" b="b"/>
            <a:pathLst>
              <a:path w="518" h="659">
                <a:moveTo>
                  <a:pt x="518" y="309"/>
                </a:moveTo>
                <a:lnTo>
                  <a:pt x="289" y="0"/>
                </a:lnTo>
                <a:lnTo>
                  <a:pt x="0" y="530"/>
                </a:lnTo>
                <a:lnTo>
                  <a:pt x="53" y="650"/>
                </a:lnTo>
                <a:lnTo>
                  <a:pt x="414" y="659"/>
                </a:lnTo>
                <a:lnTo>
                  <a:pt x="518" y="3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6280" y="3230640"/>
            <a:ext cx="558720" cy="439560"/>
          </a:xfrm>
          <a:custGeom>
            <a:avLst/>
            <a:gdLst/>
            <a:ahLst/>
            <a:rect l="l" t="t" r="r" b="b"/>
            <a:pathLst>
              <a:path w="977" h="832">
                <a:moveTo>
                  <a:pt x="977" y="478"/>
                </a:moveTo>
                <a:lnTo>
                  <a:pt x="586" y="5"/>
                </a:lnTo>
                <a:lnTo>
                  <a:pt x="232" y="0"/>
                </a:lnTo>
                <a:lnTo>
                  <a:pt x="0" y="436"/>
                </a:lnTo>
                <a:lnTo>
                  <a:pt x="233" y="745"/>
                </a:lnTo>
                <a:lnTo>
                  <a:pt x="512" y="804"/>
                </a:lnTo>
                <a:lnTo>
                  <a:pt x="651" y="829"/>
                </a:lnTo>
                <a:lnTo>
                  <a:pt x="715" y="832"/>
                </a:lnTo>
                <a:lnTo>
                  <a:pt x="787" y="831"/>
                </a:lnTo>
                <a:lnTo>
                  <a:pt x="849" y="819"/>
                </a:lnTo>
                <a:lnTo>
                  <a:pt x="895" y="808"/>
                </a:lnTo>
                <a:lnTo>
                  <a:pt x="943" y="563"/>
                </a:lnTo>
                <a:lnTo>
                  <a:pt x="961" y="510"/>
                </a:lnTo>
                <a:lnTo>
                  <a:pt x="977" y="47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12880" y="2928960"/>
            <a:ext cx="341280" cy="554040"/>
          </a:xfrm>
          <a:custGeom>
            <a:avLst/>
            <a:gdLst/>
            <a:ahLst/>
            <a:rect l="l" t="t" r="r" b="b"/>
            <a:pathLst>
              <a:path w="599" h="1045">
                <a:moveTo>
                  <a:pt x="490" y="138"/>
                </a:moveTo>
                <a:lnTo>
                  <a:pt x="249" y="0"/>
                </a:lnTo>
                <a:lnTo>
                  <a:pt x="0" y="571"/>
                </a:lnTo>
                <a:lnTo>
                  <a:pt x="388" y="1045"/>
                </a:lnTo>
                <a:lnTo>
                  <a:pt x="397" y="1028"/>
                </a:lnTo>
                <a:lnTo>
                  <a:pt x="429" y="1017"/>
                </a:lnTo>
                <a:lnTo>
                  <a:pt x="599" y="956"/>
                </a:lnTo>
                <a:lnTo>
                  <a:pt x="366" y="629"/>
                </a:lnTo>
                <a:lnTo>
                  <a:pt x="490" y="13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22400" y="2857680"/>
            <a:ext cx="439920" cy="579240"/>
          </a:xfrm>
          <a:custGeom>
            <a:avLst/>
            <a:gdLst/>
            <a:ahLst/>
            <a:rect l="l" t="t" r="r" b="b"/>
            <a:pathLst>
              <a:path w="769" h="1097">
                <a:moveTo>
                  <a:pt x="425" y="1076"/>
                </a:moveTo>
                <a:lnTo>
                  <a:pt x="605" y="867"/>
                </a:lnTo>
                <a:lnTo>
                  <a:pt x="769" y="409"/>
                </a:lnTo>
                <a:lnTo>
                  <a:pt x="524" y="0"/>
                </a:lnTo>
                <a:lnTo>
                  <a:pt x="124" y="278"/>
                </a:lnTo>
                <a:lnTo>
                  <a:pt x="0" y="767"/>
                </a:lnTo>
                <a:lnTo>
                  <a:pt x="234" y="1097"/>
                </a:lnTo>
                <a:lnTo>
                  <a:pt x="275" y="1085"/>
                </a:lnTo>
                <a:lnTo>
                  <a:pt x="337" y="1073"/>
                </a:lnTo>
                <a:lnTo>
                  <a:pt x="383" y="1072"/>
                </a:lnTo>
                <a:lnTo>
                  <a:pt x="425" y="107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2805120"/>
            <a:ext cx="500400" cy="512640"/>
          </a:xfrm>
          <a:custGeom>
            <a:avLst/>
            <a:gdLst/>
            <a:ahLst/>
            <a:rect l="l" t="t" r="r" b="b"/>
            <a:pathLst>
              <a:path w="873" h="968">
                <a:moveTo>
                  <a:pt x="313" y="967"/>
                </a:moveTo>
                <a:lnTo>
                  <a:pt x="873" y="172"/>
                </a:lnTo>
                <a:lnTo>
                  <a:pt x="738" y="0"/>
                </a:lnTo>
                <a:lnTo>
                  <a:pt x="166" y="510"/>
                </a:lnTo>
                <a:lnTo>
                  <a:pt x="0" y="968"/>
                </a:lnTo>
                <a:lnTo>
                  <a:pt x="313" y="96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66840" y="2895480"/>
            <a:ext cx="723960" cy="598680"/>
          </a:xfrm>
          <a:custGeom>
            <a:avLst/>
            <a:gdLst/>
            <a:ahLst/>
            <a:rect l="l" t="t" r="r" b="b"/>
            <a:pathLst>
              <a:path w="1264" h="1131">
                <a:moveTo>
                  <a:pt x="301" y="1131"/>
                </a:moveTo>
                <a:lnTo>
                  <a:pt x="825" y="1007"/>
                </a:lnTo>
                <a:lnTo>
                  <a:pt x="1078" y="1061"/>
                </a:lnTo>
                <a:lnTo>
                  <a:pt x="1264" y="10"/>
                </a:lnTo>
                <a:lnTo>
                  <a:pt x="1051" y="0"/>
                </a:lnTo>
                <a:lnTo>
                  <a:pt x="492" y="797"/>
                </a:lnTo>
                <a:lnTo>
                  <a:pt x="179" y="798"/>
                </a:lnTo>
                <a:lnTo>
                  <a:pt x="0" y="1004"/>
                </a:lnTo>
                <a:lnTo>
                  <a:pt x="27" y="1011"/>
                </a:lnTo>
                <a:lnTo>
                  <a:pt x="135" y="1049"/>
                </a:lnTo>
                <a:lnTo>
                  <a:pt x="301" y="113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22640" y="2641680"/>
            <a:ext cx="469800" cy="433440"/>
          </a:xfrm>
          <a:custGeom>
            <a:avLst/>
            <a:gdLst/>
            <a:ahLst/>
            <a:rect l="l" t="t" r="r" b="b"/>
            <a:pathLst>
              <a:path w="817" h="817">
                <a:moveTo>
                  <a:pt x="247" y="817"/>
                </a:moveTo>
                <a:lnTo>
                  <a:pt x="817" y="308"/>
                </a:lnTo>
                <a:lnTo>
                  <a:pt x="559" y="0"/>
                </a:lnTo>
                <a:lnTo>
                  <a:pt x="376" y="251"/>
                </a:lnTo>
                <a:lnTo>
                  <a:pt x="26" y="176"/>
                </a:lnTo>
                <a:lnTo>
                  <a:pt x="0" y="406"/>
                </a:lnTo>
                <a:lnTo>
                  <a:pt x="247" y="81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36760" y="3427560"/>
            <a:ext cx="487440" cy="255600"/>
          </a:xfrm>
          <a:custGeom>
            <a:avLst/>
            <a:gdLst/>
            <a:ahLst/>
            <a:rect l="l" t="t" r="r" b="b"/>
            <a:pathLst>
              <a:path w="849" h="484">
                <a:moveTo>
                  <a:pt x="340" y="484"/>
                </a:moveTo>
                <a:lnTo>
                  <a:pt x="849" y="296"/>
                </a:lnTo>
                <a:lnTo>
                  <a:pt x="848" y="154"/>
                </a:lnTo>
                <a:lnTo>
                  <a:pt x="784" y="58"/>
                </a:lnTo>
                <a:lnTo>
                  <a:pt x="528" y="0"/>
                </a:lnTo>
                <a:lnTo>
                  <a:pt x="0" y="125"/>
                </a:lnTo>
                <a:lnTo>
                  <a:pt x="26" y="357"/>
                </a:lnTo>
                <a:lnTo>
                  <a:pt x="340" y="4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55920" y="3584520"/>
            <a:ext cx="471600" cy="639720"/>
          </a:xfrm>
          <a:custGeom>
            <a:avLst/>
            <a:gdLst/>
            <a:ahLst/>
            <a:rect l="l" t="t" r="r" b="b"/>
            <a:pathLst>
              <a:path w="822" h="1208">
                <a:moveTo>
                  <a:pt x="112" y="1208"/>
                </a:moveTo>
                <a:lnTo>
                  <a:pt x="262" y="1190"/>
                </a:lnTo>
                <a:lnTo>
                  <a:pt x="461" y="1111"/>
                </a:lnTo>
                <a:lnTo>
                  <a:pt x="479" y="834"/>
                </a:lnTo>
                <a:lnTo>
                  <a:pt x="585" y="719"/>
                </a:lnTo>
                <a:lnTo>
                  <a:pt x="712" y="591"/>
                </a:lnTo>
                <a:lnTo>
                  <a:pt x="791" y="542"/>
                </a:lnTo>
                <a:lnTo>
                  <a:pt x="822" y="529"/>
                </a:lnTo>
                <a:lnTo>
                  <a:pt x="638" y="0"/>
                </a:lnTo>
                <a:lnTo>
                  <a:pt x="128" y="189"/>
                </a:lnTo>
                <a:lnTo>
                  <a:pt x="0" y="703"/>
                </a:lnTo>
                <a:lnTo>
                  <a:pt x="22" y="877"/>
                </a:lnTo>
                <a:lnTo>
                  <a:pt x="112" y="120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25640" y="3429000"/>
            <a:ext cx="657360" cy="439560"/>
          </a:xfrm>
          <a:custGeom>
            <a:avLst/>
            <a:gdLst/>
            <a:ahLst/>
            <a:rect l="l" t="t" r="r" b="b"/>
            <a:pathLst>
              <a:path w="1147" h="829">
                <a:moveTo>
                  <a:pt x="261" y="806"/>
                </a:moveTo>
                <a:lnTo>
                  <a:pt x="327" y="802"/>
                </a:lnTo>
                <a:lnTo>
                  <a:pt x="412" y="619"/>
                </a:lnTo>
                <a:lnTo>
                  <a:pt x="825" y="633"/>
                </a:lnTo>
                <a:lnTo>
                  <a:pt x="1147" y="120"/>
                </a:lnTo>
                <a:lnTo>
                  <a:pt x="1032" y="0"/>
                </a:lnTo>
                <a:lnTo>
                  <a:pt x="663" y="179"/>
                </a:lnTo>
                <a:lnTo>
                  <a:pt x="208" y="67"/>
                </a:lnTo>
                <a:lnTo>
                  <a:pt x="1" y="161"/>
                </a:lnTo>
                <a:lnTo>
                  <a:pt x="0" y="302"/>
                </a:lnTo>
                <a:lnTo>
                  <a:pt x="181" y="829"/>
                </a:lnTo>
                <a:lnTo>
                  <a:pt x="200" y="821"/>
                </a:lnTo>
                <a:lnTo>
                  <a:pt x="261" y="80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84600" y="2898720"/>
            <a:ext cx="333360" cy="612720"/>
          </a:xfrm>
          <a:custGeom>
            <a:avLst/>
            <a:gdLst/>
            <a:ahLst/>
            <a:rect l="l" t="t" r="r" b="b"/>
            <a:pathLst>
              <a:path w="583" h="1159">
                <a:moveTo>
                  <a:pt x="271" y="1068"/>
                </a:moveTo>
                <a:lnTo>
                  <a:pt x="554" y="573"/>
                </a:lnTo>
                <a:lnTo>
                  <a:pt x="583" y="314"/>
                </a:lnTo>
                <a:lnTo>
                  <a:pt x="446" y="158"/>
                </a:lnTo>
                <a:lnTo>
                  <a:pt x="186" y="0"/>
                </a:lnTo>
                <a:lnTo>
                  <a:pt x="0" y="1052"/>
                </a:lnTo>
                <a:lnTo>
                  <a:pt x="69" y="1159"/>
                </a:lnTo>
                <a:lnTo>
                  <a:pt x="271" y="106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41560" y="3200400"/>
            <a:ext cx="471600" cy="320760"/>
          </a:xfrm>
          <a:custGeom>
            <a:avLst/>
            <a:gdLst/>
            <a:ahLst/>
            <a:rect l="l" t="t" r="r" b="b"/>
            <a:pathLst>
              <a:path w="825" h="606">
                <a:moveTo>
                  <a:pt x="825" y="422"/>
                </a:moveTo>
                <a:lnTo>
                  <a:pt x="821" y="112"/>
                </a:lnTo>
                <a:lnTo>
                  <a:pt x="283" y="0"/>
                </a:lnTo>
                <a:lnTo>
                  <a:pt x="0" y="492"/>
                </a:lnTo>
                <a:lnTo>
                  <a:pt x="458" y="606"/>
                </a:lnTo>
                <a:lnTo>
                  <a:pt x="825" y="4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2120" y="2778120"/>
            <a:ext cx="655560" cy="482760"/>
          </a:xfrm>
          <a:custGeom>
            <a:avLst/>
            <a:gdLst/>
            <a:ahLst/>
            <a:rect l="l" t="t" r="r" b="b"/>
            <a:pathLst>
              <a:path w="1143" h="910">
                <a:moveTo>
                  <a:pt x="542" y="910"/>
                </a:moveTo>
                <a:lnTo>
                  <a:pt x="1143" y="446"/>
                </a:lnTo>
                <a:lnTo>
                  <a:pt x="1032" y="107"/>
                </a:lnTo>
                <a:lnTo>
                  <a:pt x="903" y="0"/>
                </a:lnTo>
                <a:lnTo>
                  <a:pt x="441" y="107"/>
                </a:lnTo>
                <a:lnTo>
                  <a:pt x="268" y="498"/>
                </a:lnTo>
                <a:lnTo>
                  <a:pt x="30" y="544"/>
                </a:lnTo>
                <a:lnTo>
                  <a:pt x="0" y="799"/>
                </a:lnTo>
                <a:lnTo>
                  <a:pt x="542" y="91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08160" y="2716200"/>
            <a:ext cx="347760" cy="349200"/>
          </a:xfrm>
          <a:custGeom>
            <a:avLst/>
            <a:gdLst/>
            <a:ahLst/>
            <a:rect l="l" t="t" r="r" b="b"/>
            <a:pathLst>
              <a:path w="606" h="660">
                <a:moveTo>
                  <a:pt x="432" y="612"/>
                </a:moveTo>
                <a:lnTo>
                  <a:pt x="606" y="224"/>
                </a:lnTo>
                <a:lnTo>
                  <a:pt x="313" y="0"/>
                </a:lnTo>
                <a:lnTo>
                  <a:pt x="0" y="37"/>
                </a:lnTo>
                <a:lnTo>
                  <a:pt x="1" y="147"/>
                </a:lnTo>
                <a:lnTo>
                  <a:pt x="186" y="265"/>
                </a:lnTo>
                <a:lnTo>
                  <a:pt x="58" y="502"/>
                </a:lnTo>
                <a:lnTo>
                  <a:pt x="195" y="660"/>
                </a:lnTo>
                <a:lnTo>
                  <a:pt x="432" y="61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43040" y="2558880"/>
            <a:ext cx="465120" cy="341640"/>
          </a:xfrm>
          <a:custGeom>
            <a:avLst/>
            <a:gdLst/>
            <a:ahLst/>
            <a:rect l="l" t="t" r="r" b="b"/>
            <a:pathLst>
              <a:path w="810" h="645">
                <a:moveTo>
                  <a:pt x="613" y="645"/>
                </a:moveTo>
                <a:lnTo>
                  <a:pt x="810" y="453"/>
                </a:lnTo>
                <a:lnTo>
                  <a:pt x="810" y="335"/>
                </a:lnTo>
                <a:lnTo>
                  <a:pt x="364" y="2"/>
                </a:lnTo>
                <a:lnTo>
                  <a:pt x="10" y="0"/>
                </a:lnTo>
                <a:lnTo>
                  <a:pt x="0" y="156"/>
                </a:lnTo>
                <a:lnTo>
                  <a:pt x="393" y="635"/>
                </a:lnTo>
                <a:lnTo>
                  <a:pt x="613" y="64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0200" y="2209680"/>
            <a:ext cx="320760" cy="351000"/>
          </a:xfrm>
          <a:custGeom>
            <a:avLst/>
            <a:gdLst/>
            <a:ahLst/>
            <a:rect l="l" t="t" r="r" b="b"/>
            <a:pathLst>
              <a:path w="558" h="663">
                <a:moveTo>
                  <a:pt x="438" y="663"/>
                </a:moveTo>
                <a:lnTo>
                  <a:pt x="521" y="494"/>
                </a:lnTo>
                <a:lnTo>
                  <a:pt x="558" y="0"/>
                </a:lnTo>
                <a:lnTo>
                  <a:pt x="508" y="24"/>
                </a:lnTo>
                <a:lnTo>
                  <a:pt x="112" y="196"/>
                </a:lnTo>
                <a:lnTo>
                  <a:pt x="0" y="497"/>
                </a:lnTo>
                <a:lnTo>
                  <a:pt x="86" y="660"/>
                </a:lnTo>
                <a:lnTo>
                  <a:pt x="438" y="6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51120" y="2471760"/>
            <a:ext cx="452520" cy="264960"/>
          </a:xfrm>
          <a:custGeom>
            <a:avLst/>
            <a:gdLst/>
            <a:ahLst/>
            <a:rect l="l" t="t" r="r" b="b"/>
            <a:pathLst>
              <a:path w="790" h="500">
                <a:moveTo>
                  <a:pt x="448" y="500"/>
                </a:moveTo>
                <a:lnTo>
                  <a:pt x="762" y="464"/>
                </a:lnTo>
                <a:lnTo>
                  <a:pt x="790" y="292"/>
                </a:lnTo>
                <a:lnTo>
                  <a:pt x="741" y="117"/>
                </a:lnTo>
                <a:lnTo>
                  <a:pt x="84" y="0"/>
                </a:lnTo>
                <a:lnTo>
                  <a:pt x="0" y="167"/>
                </a:lnTo>
                <a:lnTo>
                  <a:pt x="448" y="5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00440" y="2075040"/>
            <a:ext cx="815760" cy="458640"/>
          </a:xfrm>
          <a:custGeom>
            <a:avLst/>
            <a:gdLst/>
            <a:ahLst/>
            <a:rect l="l" t="t" r="r" b="b"/>
            <a:pathLst>
              <a:path w="1423" h="868">
                <a:moveTo>
                  <a:pt x="657" y="868"/>
                </a:moveTo>
                <a:lnTo>
                  <a:pt x="1195" y="650"/>
                </a:lnTo>
                <a:lnTo>
                  <a:pt x="1423" y="288"/>
                </a:lnTo>
                <a:lnTo>
                  <a:pt x="1225" y="0"/>
                </a:lnTo>
                <a:lnTo>
                  <a:pt x="623" y="12"/>
                </a:lnTo>
                <a:lnTo>
                  <a:pt x="35" y="257"/>
                </a:lnTo>
                <a:lnTo>
                  <a:pt x="0" y="753"/>
                </a:lnTo>
                <a:lnTo>
                  <a:pt x="657" y="868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74840" y="2419200"/>
            <a:ext cx="333360" cy="212760"/>
          </a:xfrm>
          <a:custGeom>
            <a:avLst/>
            <a:gdLst/>
            <a:ahLst/>
            <a:rect l="l" t="t" r="r" b="b"/>
            <a:pathLst>
              <a:path w="582" h="404">
                <a:moveTo>
                  <a:pt x="372" y="404"/>
                </a:moveTo>
                <a:lnTo>
                  <a:pt x="582" y="159"/>
                </a:lnTo>
                <a:lnTo>
                  <a:pt x="538" y="0"/>
                </a:lnTo>
                <a:lnTo>
                  <a:pt x="0" y="216"/>
                </a:lnTo>
                <a:lnTo>
                  <a:pt x="53" y="388"/>
                </a:lnTo>
                <a:lnTo>
                  <a:pt x="372" y="40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3000" y="2178000"/>
            <a:ext cx="379440" cy="463680"/>
          </a:xfrm>
          <a:custGeom>
            <a:avLst/>
            <a:gdLst/>
            <a:ahLst/>
            <a:rect l="l" t="t" r="r" b="b"/>
            <a:pathLst>
              <a:path w="663" h="874">
                <a:moveTo>
                  <a:pt x="339" y="874"/>
                </a:moveTo>
                <a:lnTo>
                  <a:pt x="663" y="797"/>
                </a:lnTo>
                <a:lnTo>
                  <a:pt x="637" y="185"/>
                </a:lnTo>
                <a:lnTo>
                  <a:pt x="511" y="0"/>
                </a:lnTo>
                <a:lnTo>
                  <a:pt x="232" y="95"/>
                </a:lnTo>
                <a:lnTo>
                  <a:pt x="0" y="458"/>
                </a:lnTo>
                <a:lnTo>
                  <a:pt x="47" y="617"/>
                </a:lnTo>
                <a:lnTo>
                  <a:pt x="339" y="874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2162160"/>
            <a:ext cx="363600" cy="338040"/>
          </a:xfrm>
          <a:custGeom>
            <a:avLst/>
            <a:gdLst/>
            <a:ahLst/>
            <a:rect l="l" t="t" r="r" b="b"/>
            <a:pathLst>
              <a:path w="633" h="639">
                <a:moveTo>
                  <a:pt x="550" y="609"/>
                </a:moveTo>
                <a:lnTo>
                  <a:pt x="577" y="537"/>
                </a:lnTo>
                <a:lnTo>
                  <a:pt x="633" y="220"/>
                </a:lnTo>
                <a:lnTo>
                  <a:pt x="438" y="0"/>
                </a:lnTo>
                <a:lnTo>
                  <a:pt x="0" y="156"/>
                </a:lnTo>
                <a:lnTo>
                  <a:pt x="65" y="429"/>
                </a:lnTo>
                <a:lnTo>
                  <a:pt x="314" y="639"/>
                </a:lnTo>
                <a:lnTo>
                  <a:pt x="550" y="6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1835280"/>
            <a:ext cx="723960" cy="409320"/>
          </a:xfrm>
          <a:custGeom>
            <a:avLst/>
            <a:gdLst/>
            <a:ahLst/>
            <a:rect l="l" t="t" r="r" b="b"/>
            <a:pathLst>
              <a:path w="1262" h="774">
                <a:moveTo>
                  <a:pt x="813" y="774"/>
                </a:moveTo>
                <a:lnTo>
                  <a:pt x="1254" y="618"/>
                </a:lnTo>
                <a:lnTo>
                  <a:pt x="1262" y="429"/>
                </a:lnTo>
                <a:lnTo>
                  <a:pt x="599" y="0"/>
                </a:lnTo>
                <a:lnTo>
                  <a:pt x="505" y="27"/>
                </a:lnTo>
                <a:lnTo>
                  <a:pt x="405" y="67"/>
                </a:lnTo>
                <a:lnTo>
                  <a:pt x="349" y="95"/>
                </a:lnTo>
                <a:lnTo>
                  <a:pt x="291" y="131"/>
                </a:lnTo>
                <a:lnTo>
                  <a:pt x="177" y="225"/>
                </a:lnTo>
                <a:lnTo>
                  <a:pt x="0" y="395"/>
                </a:lnTo>
                <a:lnTo>
                  <a:pt x="225" y="704"/>
                </a:lnTo>
                <a:lnTo>
                  <a:pt x="813" y="77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29280" y="1603440"/>
            <a:ext cx="560160" cy="460440"/>
          </a:xfrm>
          <a:custGeom>
            <a:avLst/>
            <a:gdLst/>
            <a:ahLst/>
            <a:rect l="l" t="t" r="r" b="b"/>
            <a:pathLst>
              <a:path w="978" h="871">
                <a:moveTo>
                  <a:pt x="978" y="415"/>
                </a:moveTo>
                <a:lnTo>
                  <a:pt x="906" y="36"/>
                </a:lnTo>
                <a:lnTo>
                  <a:pt x="691" y="0"/>
                </a:lnTo>
                <a:lnTo>
                  <a:pt x="21" y="335"/>
                </a:lnTo>
                <a:lnTo>
                  <a:pt x="0" y="440"/>
                </a:lnTo>
                <a:lnTo>
                  <a:pt x="668" y="871"/>
                </a:lnTo>
                <a:lnTo>
                  <a:pt x="786" y="779"/>
                </a:lnTo>
                <a:lnTo>
                  <a:pt x="978" y="41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06920" y="1822320"/>
            <a:ext cx="874800" cy="511200"/>
          </a:xfrm>
          <a:custGeom>
            <a:avLst/>
            <a:gdLst/>
            <a:ahLst/>
            <a:rect l="l" t="t" r="r" b="b"/>
            <a:pathLst>
              <a:path w="1523" h="967">
                <a:moveTo>
                  <a:pt x="1060" y="290"/>
                </a:moveTo>
                <a:lnTo>
                  <a:pt x="1035" y="98"/>
                </a:lnTo>
                <a:lnTo>
                  <a:pt x="319" y="0"/>
                </a:lnTo>
                <a:lnTo>
                  <a:pt x="127" y="363"/>
                </a:lnTo>
                <a:lnTo>
                  <a:pt x="6" y="458"/>
                </a:lnTo>
                <a:lnTo>
                  <a:pt x="0" y="640"/>
                </a:lnTo>
                <a:lnTo>
                  <a:pt x="194" y="862"/>
                </a:lnTo>
                <a:lnTo>
                  <a:pt x="695" y="967"/>
                </a:lnTo>
                <a:lnTo>
                  <a:pt x="813" y="890"/>
                </a:lnTo>
                <a:lnTo>
                  <a:pt x="891" y="469"/>
                </a:lnTo>
                <a:lnTo>
                  <a:pt x="1315" y="605"/>
                </a:lnTo>
                <a:lnTo>
                  <a:pt x="1454" y="520"/>
                </a:lnTo>
                <a:lnTo>
                  <a:pt x="1476" y="475"/>
                </a:lnTo>
                <a:lnTo>
                  <a:pt x="1489" y="457"/>
                </a:lnTo>
                <a:lnTo>
                  <a:pt x="1523" y="405"/>
                </a:lnTo>
                <a:lnTo>
                  <a:pt x="1500" y="352"/>
                </a:lnTo>
                <a:lnTo>
                  <a:pt x="1486" y="327"/>
                </a:lnTo>
                <a:lnTo>
                  <a:pt x="1468" y="309"/>
                </a:lnTo>
                <a:lnTo>
                  <a:pt x="1438" y="286"/>
                </a:lnTo>
                <a:lnTo>
                  <a:pt x="1404" y="272"/>
                </a:lnTo>
                <a:lnTo>
                  <a:pt x="1363" y="262"/>
                </a:lnTo>
                <a:lnTo>
                  <a:pt x="1314" y="255"/>
                </a:lnTo>
                <a:lnTo>
                  <a:pt x="1212" y="263"/>
                </a:lnTo>
                <a:lnTo>
                  <a:pt x="1060" y="29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99080" y="2278080"/>
            <a:ext cx="449280" cy="189000"/>
          </a:xfrm>
          <a:custGeom>
            <a:avLst/>
            <a:gdLst/>
            <a:ahLst/>
            <a:rect l="l" t="t" r="r" b="b"/>
            <a:pathLst>
              <a:path w="785" h="355">
                <a:moveTo>
                  <a:pt x="785" y="211"/>
                </a:moveTo>
                <a:lnTo>
                  <a:pt x="661" y="20"/>
                </a:lnTo>
                <a:lnTo>
                  <a:pt x="532" y="106"/>
                </a:lnTo>
                <a:lnTo>
                  <a:pt x="37" y="0"/>
                </a:lnTo>
                <a:lnTo>
                  <a:pt x="0" y="220"/>
                </a:lnTo>
                <a:lnTo>
                  <a:pt x="526" y="355"/>
                </a:lnTo>
                <a:lnTo>
                  <a:pt x="785" y="2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5280" y="2070000"/>
            <a:ext cx="398520" cy="488880"/>
          </a:xfrm>
          <a:custGeom>
            <a:avLst/>
            <a:gdLst/>
            <a:ahLst/>
            <a:rect l="l" t="t" r="r" b="b"/>
            <a:pathLst>
              <a:path w="696" h="923">
                <a:moveTo>
                  <a:pt x="696" y="821"/>
                </a:moveTo>
                <a:lnTo>
                  <a:pt x="640" y="49"/>
                </a:lnTo>
                <a:lnTo>
                  <a:pt x="499" y="136"/>
                </a:lnTo>
                <a:lnTo>
                  <a:pt x="76" y="0"/>
                </a:lnTo>
                <a:lnTo>
                  <a:pt x="0" y="415"/>
                </a:lnTo>
                <a:lnTo>
                  <a:pt x="128" y="606"/>
                </a:lnTo>
                <a:lnTo>
                  <a:pt x="556" y="923"/>
                </a:lnTo>
                <a:lnTo>
                  <a:pt x="696" y="82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73520" y="2395440"/>
            <a:ext cx="384120" cy="517680"/>
          </a:xfrm>
          <a:custGeom>
            <a:avLst/>
            <a:gdLst/>
            <a:ahLst/>
            <a:rect l="l" t="t" r="r" b="b"/>
            <a:pathLst>
              <a:path w="673" h="978">
                <a:moveTo>
                  <a:pt x="606" y="776"/>
                </a:moveTo>
                <a:lnTo>
                  <a:pt x="673" y="324"/>
                </a:lnTo>
                <a:lnTo>
                  <a:pt x="578" y="137"/>
                </a:lnTo>
                <a:lnTo>
                  <a:pt x="44" y="0"/>
                </a:lnTo>
                <a:lnTo>
                  <a:pt x="25" y="97"/>
                </a:lnTo>
                <a:lnTo>
                  <a:pt x="0" y="169"/>
                </a:lnTo>
                <a:lnTo>
                  <a:pt x="119" y="961"/>
                </a:lnTo>
                <a:lnTo>
                  <a:pt x="419" y="978"/>
                </a:lnTo>
                <a:lnTo>
                  <a:pt x="606" y="77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2390760"/>
            <a:ext cx="389160" cy="468360"/>
          </a:xfrm>
          <a:custGeom>
            <a:avLst/>
            <a:gdLst/>
            <a:ahLst/>
            <a:rect l="l" t="t" r="r" b="b"/>
            <a:pathLst>
              <a:path w="676" h="885">
                <a:moveTo>
                  <a:pt x="676" y="317"/>
                </a:moveTo>
                <a:lnTo>
                  <a:pt x="251" y="0"/>
                </a:lnTo>
                <a:lnTo>
                  <a:pt x="0" y="143"/>
                </a:lnTo>
                <a:lnTo>
                  <a:pt x="93" y="331"/>
                </a:lnTo>
                <a:lnTo>
                  <a:pt x="26" y="785"/>
                </a:lnTo>
                <a:lnTo>
                  <a:pt x="400" y="885"/>
                </a:lnTo>
                <a:lnTo>
                  <a:pt x="676" y="31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24320" y="2484360"/>
            <a:ext cx="415800" cy="573120"/>
          </a:xfrm>
          <a:custGeom>
            <a:avLst/>
            <a:gdLst/>
            <a:ahLst/>
            <a:rect l="l" t="t" r="r" b="b"/>
            <a:pathLst>
              <a:path w="728" h="1084">
                <a:moveTo>
                  <a:pt x="728" y="801"/>
                </a:moveTo>
                <a:lnTo>
                  <a:pt x="610" y="0"/>
                </a:lnTo>
                <a:lnTo>
                  <a:pt x="368" y="32"/>
                </a:lnTo>
                <a:lnTo>
                  <a:pt x="0" y="861"/>
                </a:lnTo>
                <a:lnTo>
                  <a:pt x="461" y="1084"/>
                </a:lnTo>
                <a:lnTo>
                  <a:pt x="728" y="80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35320" y="2386080"/>
            <a:ext cx="397080" cy="573120"/>
          </a:xfrm>
          <a:custGeom>
            <a:avLst/>
            <a:gdLst/>
            <a:ahLst/>
            <a:rect l="l" t="t" r="r" b="b"/>
            <a:pathLst>
              <a:path w="697" h="1084">
                <a:moveTo>
                  <a:pt x="697" y="213"/>
                </a:moveTo>
                <a:lnTo>
                  <a:pt x="445" y="0"/>
                </a:lnTo>
                <a:lnTo>
                  <a:pt x="0" y="521"/>
                </a:lnTo>
                <a:lnTo>
                  <a:pt x="232" y="1084"/>
                </a:lnTo>
                <a:lnTo>
                  <a:pt x="328" y="1045"/>
                </a:lnTo>
                <a:lnTo>
                  <a:pt x="697" y="21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57680" y="2635200"/>
            <a:ext cx="509400" cy="498600"/>
          </a:xfrm>
          <a:custGeom>
            <a:avLst/>
            <a:gdLst/>
            <a:ahLst/>
            <a:rect l="l" t="t" r="r" b="b"/>
            <a:pathLst>
              <a:path w="889" h="941">
                <a:moveTo>
                  <a:pt x="889" y="616"/>
                </a:moveTo>
                <a:lnTo>
                  <a:pt x="657" y="49"/>
                </a:lnTo>
                <a:lnTo>
                  <a:pt x="293" y="0"/>
                </a:lnTo>
                <a:lnTo>
                  <a:pt x="263" y="457"/>
                </a:lnTo>
                <a:lnTo>
                  <a:pt x="0" y="721"/>
                </a:lnTo>
                <a:lnTo>
                  <a:pt x="84" y="875"/>
                </a:lnTo>
                <a:lnTo>
                  <a:pt x="610" y="941"/>
                </a:lnTo>
                <a:lnTo>
                  <a:pt x="857" y="908"/>
                </a:lnTo>
                <a:lnTo>
                  <a:pt x="889" y="61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11360" y="3013200"/>
            <a:ext cx="390600" cy="480960"/>
          </a:xfrm>
          <a:custGeom>
            <a:avLst/>
            <a:gdLst/>
            <a:ahLst/>
            <a:rect l="l" t="t" r="r" b="b"/>
            <a:pathLst>
              <a:path w="683" h="907">
                <a:moveTo>
                  <a:pt x="675" y="611"/>
                </a:moveTo>
                <a:lnTo>
                  <a:pt x="683" y="155"/>
                </a:lnTo>
                <a:lnTo>
                  <a:pt x="603" y="0"/>
                </a:lnTo>
                <a:lnTo>
                  <a:pt x="0" y="466"/>
                </a:lnTo>
                <a:lnTo>
                  <a:pt x="2" y="775"/>
                </a:lnTo>
                <a:lnTo>
                  <a:pt x="127" y="907"/>
                </a:lnTo>
                <a:lnTo>
                  <a:pt x="390" y="874"/>
                </a:lnTo>
                <a:lnTo>
                  <a:pt x="456" y="754"/>
                </a:lnTo>
                <a:lnTo>
                  <a:pt x="675" y="6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11400" y="3754440"/>
            <a:ext cx="478080" cy="374760"/>
          </a:xfrm>
          <a:custGeom>
            <a:avLst/>
            <a:gdLst/>
            <a:ahLst/>
            <a:rect l="l" t="t" r="r" b="b"/>
            <a:pathLst>
              <a:path w="832" h="708">
                <a:moveTo>
                  <a:pt x="832" y="433"/>
                </a:moveTo>
                <a:lnTo>
                  <a:pt x="495" y="13"/>
                </a:lnTo>
                <a:lnTo>
                  <a:pt x="83" y="0"/>
                </a:lnTo>
                <a:lnTo>
                  <a:pt x="1" y="179"/>
                </a:lnTo>
                <a:lnTo>
                  <a:pt x="0" y="194"/>
                </a:lnTo>
                <a:lnTo>
                  <a:pt x="23" y="278"/>
                </a:lnTo>
                <a:lnTo>
                  <a:pt x="67" y="359"/>
                </a:lnTo>
                <a:lnTo>
                  <a:pt x="99" y="401"/>
                </a:lnTo>
                <a:lnTo>
                  <a:pt x="131" y="442"/>
                </a:lnTo>
                <a:lnTo>
                  <a:pt x="178" y="499"/>
                </a:lnTo>
                <a:lnTo>
                  <a:pt x="238" y="559"/>
                </a:lnTo>
                <a:lnTo>
                  <a:pt x="300" y="616"/>
                </a:lnTo>
                <a:lnTo>
                  <a:pt x="401" y="708"/>
                </a:lnTo>
                <a:lnTo>
                  <a:pt x="592" y="691"/>
                </a:lnTo>
                <a:lnTo>
                  <a:pt x="698" y="696"/>
                </a:lnTo>
                <a:lnTo>
                  <a:pt x="832" y="43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1360" y="3951360"/>
            <a:ext cx="374760" cy="247680"/>
          </a:xfrm>
          <a:custGeom>
            <a:avLst/>
            <a:gdLst/>
            <a:ahLst/>
            <a:rect l="l" t="t" r="r" b="b"/>
            <a:pathLst>
              <a:path w="654" h="469">
                <a:moveTo>
                  <a:pt x="654" y="469"/>
                </a:moveTo>
                <a:lnTo>
                  <a:pt x="631" y="190"/>
                </a:lnTo>
                <a:lnTo>
                  <a:pt x="491" y="0"/>
                </a:lnTo>
                <a:lnTo>
                  <a:pt x="131" y="61"/>
                </a:lnTo>
                <a:lnTo>
                  <a:pt x="0" y="322"/>
                </a:lnTo>
                <a:lnTo>
                  <a:pt x="41" y="423"/>
                </a:lnTo>
                <a:lnTo>
                  <a:pt x="654" y="469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74960" y="4033800"/>
            <a:ext cx="274680" cy="311040"/>
          </a:xfrm>
          <a:custGeom>
            <a:avLst/>
            <a:gdLst/>
            <a:ahLst/>
            <a:rect l="l" t="t" r="r" b="b"/>
            <a:pathLst>
              <a:path w="479" h="588">
                <a:moveTo>
                  <a:pt x="479" y="395"/>
                </a:moveTo>
                <a:lnTo>
                  <a:pt x="459" y="245"/>
                </a:lnTo>
                <a:lnTo>
                  <a:pt x="338" y="0"/>
                </a:lnTo>
                <a:lnTo>
                  <a:pt x="0" y="41"/>
                </a:lnTo>
                <a:lnTo>
                  <a:pt x="23" y="315"/>
                </a:lnTo>
                <a:lnTo>
                  <a:pt x="88" y="420"/>
                </a:lnTo>
                <a:lnTo>
                  <a:pt x="111" y="456"/>
                </a:lnTo>
                <a:lnTo>
                  <a:pt x="147" y="499"/>
                </a:lnTo>
                <a:lnTo>
                  <a:pt x="203" y="543"/>
                </a:lnTo>
                <a:lnTo>
                  <a:pt x="258" y="566"/>
                </a:lnTo>
                <a:lnTo>
                  <a:pt x="332" y="588"/>
                </a:lnTo>
                <a:lnTo>
                  <a:pt x="479" y="39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93960" y="3541680"/>
            <a:ext cx="344520" cy="512640"/>
          </a:xfrm>
          <a:custGeom>
            <a:avLst/>
            <a:gdLst/>
            <a:ahLst/>
            <a:rect l="l" t="t" r="r" b="b"/>
            <a:pathLst>
              <a:path w="599" h="970">
                <a:moveTo>
                  <a:pt x="599" y="669"/>
                </a:moveTo>
                <a:lnTo>
                  <a:pt x="369" y="360"/>
                </a:lnTo>
                <a:lnTo>
                  <a:pt x="354" y="0"/>
                </a:lnTo>
                <a:lnTo>
                  <a:pt x="168" y="78"/>
                </a:lnTo>
                <a:lnTo>
                  <a:pt x="0" y="776"/>
                </a:lnTo>
                <a:lnTo>
                  <a:pt x="143" y="970"/>
                </a:lnTo>
                <a:lnTo>
                  <a:pt x="477" y="928"/>
                </a:lnTo>
                <a:lnTo>
                  <a:pt x="599" y="669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94120" y="3519360"/>
            <a:ext cx="326880" cy="376200"/>
          </a:xfrm>
          <a:custGeom>
            <a:avLst/>
            <a:gdLst/>
            <a:ahLst/>
            <a:rect l="l" t="t" r="r" b="b"/>
            <a:pathLst>
              <a:path w="570" h="710">
                <a:moveTo>
                  <a:pt x="360" y="700"/>
                </a:moveTo>
                <a:lnTo>
                  <a:pt x="570" y="351"/>
                </a:lnTo>
                <a:lnTo>
                  <a:pt x="530" y="147"/>
                </a:lnTo>
                <a:lnTo>
                  <a:pt x="97" y="0"/>
                </a:lnTo>
                <a:lnTo>
                  <a:pt x="0" y="40"/>
                </a:lnTo>
                <a:lnTo>
                  <a:pt x="16" y="400"/>
                </a:lnTo>
                <a:lnTo>
                  <a:pt x="247" y="710"/>
                </a:lnTo>
                <a:lnTo>
                  <a:pt x="360" y="7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97240" y="3475080"/>
            <a:ext cx="495360" cy="507960"/>
          </a:xfrm>
          <a:custGeom>
            <a:avLst/>
            <a:gdLst/>
            <a:ahLst/>
            <a:rect l="l" t="t" r="r" b="b"/>
            <a:pathLst>
              <a:path w="862" h="960">
                <a:moveTo>
                  <a:pt x="694" y="899"/>
                </a:moveTo>
                <a:lnTo>
                  <a:pt x="862" y="202"/>
                </a:lnTo>
                <a:lnTo>
                  <a:pt x="589" y="0"/>
                </a:lnTo>
                <a:lnTo>
                  <a:pt x="320" y="36"/>
                </a:lnTo>
                <a:lnTo>
                  <a:pt x="0" y="540"/>
                </a:lnTo>
                <a:lnTo>
                  <a:pt x="334" y="960"/>
                </a:lnTo>
                <a:lnTo>
                  <a:pt x="694" y="89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7080" y="3336840"/>
            <a:ext cx="353880" cy="246240"/>
          </a:xfrm>
          <a:custGeom>
            <a:avLst/>
            <a:gdLst/>
            <a:ahLst/>
            <a:rect l="l" t="t" r="r" b="b"/>
            <a:pathLst>
              <a:path w="615" h="465">
                <a:moveTo>
                  <a:pt x="550" y="344"/>
                </a:moveTo>
                <a:lnTo>
                  <a:pt x="615" y="128"/>
                </a:lnTo>
                <a:lnTo>
                  <a:pt x="609" y="125"/>
                </a:lnTo>
                <a:lnTo>
                  <a:pt x="273" y="0"/>
                </a:lnTo>
                <a:lnTo>
                  <a:pt x="57" y="148"/>
                </a:lnTo>
                <a:lnTo>
                  <a:pt x="0" y="261"/>
                </a:lnTo>
                <a:lnTo>
                  <a:pt x="266" y="465"/>
                </a:lnTo>
                <a:lnTo>
                  <a:pt x="550" y="3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90960" y="3132000"/>
            <a:ext cx="112680" cy="273240"/>
          </a:xfrm>
          <a:custGeom>
            <a:avLst/>
            <a:gdLst/>
            <a:ahLst/>
            <a:rect l="l" t="t" r="r" b="b"/>
            <a:pathLst>
              <a:path w="199" h="514">
                <a:moveTo>
                  <a:pt x="199" y="0"/>
                </a:moveTo>
                <a:lnTo>
                  <a:pt x="0" y="514"/>
                </a:lnTo>
                <a:lnTo>
                  <a:pt x="19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46560" y="2938320"/>
            <a:ext cx="423720" cy="425520"/>
          </a:xfrm>
          <a:custGeom>
            <a:avLst/>
            <a:gdLst/>
            <a:ahLst/>
            <a:rect l="l" t="t" r="r" b="b"/>
            <a:pathLst>
              <a:path w="740" h="805">
                <a:moveTo>
                  <a:pt x="466" y="805"/>
                </a:moveTo>
                <a:lnTo>
                  <a:pt x="740" y="710"/>
                </a:lnTo>
                <a:lnTo>
                  <a:pt x="597" y="226"/>
                </a:lnTo>
                <a:lnTo>
                  <a:pt x="135" y="0"/>
                </a:lnTo>
                <a:lnTo>
                  <a:pt x="36" y="39"/>
                </a:lnTo>
                <a:lnTo>
                  <a:pt x="0" y="336"/>
                </a:lnTo>
                <a:lnTo>
                  <a:pt x="110" y="694"/>
                </a:lnTo>
                <a:lnTo>
                  <a:pt x="451" y="745"/>
                </a:lnTo>
                <a:lnTo>
                  <a:pt x="466" y="80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9040" y="3306600"/>
            <a:ext cx="542880" cy="452520"/>
          </a:xfrm>
          <a:custGeom>
            <a:avLst/>
            <a:gdLst/>
            <a:ahLst/>
            <a:rect l="l" t="t" r="r" b="b"/>
            <a:pathLst>
              <a:path w="943" h="857">
                <a:moveTo>
                  <a:pt x="943" y="416"/>
                </a:moveTo>
                <a:lnTo>
                  <a:pt x="821" y="11"/>
                </a:lnTo>
                <a:lnTo>
                  <a:pt x="545" y="110"/>
                </a:lnTo>
                <a:lnTo>
                  <a:pt x="534" y="52"/>
                </a:lnTo>
                <a:lnTo>
                  <a:pt x="192" y="0"/>
                </a:lnTo>
                <a:lnTo>
                  <a:pt x="0" y="553"/>
                </a:lnTo>
                <a:lnTo>
                  <a:pt x="40" y="754"/>
                </a:lnTo>
                <a:lnTo>
                  <a:pt x="663" y="857"/>
                </a:lnTo>
                <a:lnTo>
                  <a:pt x="943" y="416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4600" y="3117960"/>
            <a:ext cx="355320" cy="480960"/>
          </a:xfrm>
          <a:custGeom>
            <a:avLst/>
            <a:gdLst/>
            <a:ahLst/>
            <a:rect l="l" t="t" r="r" b="b"/>
            <a:pathLst>
              <a:path w="621" h="910">
                <a:moveTo>
                  <a:pt x="429" y="910"/>
                </a:moveTo>
                <a:lnTo>
                  <a:pt x="621" y="356"/>
                </a:lnTo>
                <a:lnTo>
                  <a:pt x="513" y="0"/>
                </a:lnTo>
                <a:lnTo>
                  <a:pt x="262" y="33"/>
                </a:lnTo>
                <a:lnTo>
                  <a:pt x="62" y="543"/>
                </a:lnTo>
                <a:lnTo>
                  <a:pt x="0" y="762"/>
                </a:lnTo>
                <a:lnTo>
                  <a:pt x="429" y="91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97280" y="3098880"/>
            <a:ext cx="308160" cy="304560"/>
          </a:xfrm>
          <a:custGeom>
            <a:avLst/>
            <a:gdLst/>
            <a:ahLst/>
            <a:rect l="l" t="t" r="r" b="b"/>
            <a:pathLst>
              <a:path w="537" h="577">
                <a:moveTo>
                  <a:pt x="537" y="64"/>
                </a:moveTo>
                <a:lnTo>
                  <a:pt x="13" y="0"/>
                </a:lnTo>
                <a:lnTo>
                  <a:pt x="0" y="451"/>
                </a:lnTo>
                <a:lnTo>
                  <a:pt x="335" y="577"/>
                </a:lnTo>
                <a:lnTo>
                  <a:pt x="537" y="6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114800"/>
            <a:ext cx="479160" cy="369720"/>
          </a:xfrm>
          <a:custGeom>
            <a:avLst/>
            <a:gdLst/>
            <a:ahLst/>
            <a:rect l="l" t="t" r="r" b="b"/>
            <a:pathLst>
              <a:path w="837" h="697">
                <a:moveTo>
                  <a:pt x="620" y="572"/>
                </a:moveTo>
                <a:lnTo>
                  <a:pt x="837" y="455"/>
                </a:lnTo>
                <a:lnTo>
                  <a:pt x="465" y="0"/>
                </a:lnTo>
                <a:lnTo>
                  <a:pt x="124" y="67"/>
                </a:lnTo>
                <a:lnTo>
                  <a:pt x="143" y="214"/>
                </a:lnTo>
                <a:lnTo>
                  <a:pt x="0" y="407"/>
                </a:lnTo>
                <a:lnTo>
                  <a:pt x="212" y="697"/>
                </a:lnTo>
                <a:lnTo>
                  <a:pt x="317" y="688"/>
                </a:lnTo>
                <a:lnTo>
                  <a:pt x="462" y="641"/>
                </a:lnTo>
                <a:lnTo>
                  <a:pt x="620" y="5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8640" y="3886200"/>
            <a:ext cx="265320" cy="274680"/>
          </a:xfrm>
          <a:custGeom>
            <a:avLst/>
            <a:gdLst/>
            <a:ahLst/>
            <a:rect l="l" t="t" r="r" b="b"/>
            <a:pathLst>
              <a:path w="462" h="518">
                <a:moveTo>
                  <a:pt x="442" y="231"/>
                </a:moveTo>
                <a:lnTo>
                  <a:pt x="234" y="0"/>
                </a:lnTo>
                <a:lnTo>
                  <a:pt x="122" y="10"/>
                </a:lnTo>
                <a:lnTo>
                  <a:pt x="0" y="267"/>
                </a:lnTo>
                <a:lnTo>
                  <a:pt x="124" y="518"/>
                </a:lnTo>
                <a:lnTo>
                  <a:pt x="462" y="453"/>
                </a:lnTo>
                <a:lnTo>
                  <a:pt x="442" y="231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02200" y="3705120"/>
            <a:ext cx="623880" cy="482760"/>
          </a:xfrm>
          <a:custGeom>
            <a:avLst/>
            <a:gdLst/>
            <a:ahLst/>
            <a:rect l="l" t="t" r="r" b="b"/>
            <a:pathLst>
              <a:path w="1087" h="912">
                <a:moveTo>
                  <a:pt x="979" y="912"/>
                </a:moveTo>
                <a:lnTo>
                  <a:pt x="1087" y="676"/>
                </a:lnTo>
                <a:lnTo>
                  <a:pt x="838" y="105"/>
                </a:lnTo>
                <a:lnTo>
                  <a:pt x="208" y="0"/>
                </a:lnTo>
                <a:lnTo>
                  <a:pt x="0" y="350"/>
                </a:lnTo>
                <a:lnTo>
                  <a:pt x="209" y="583"/>
                </a:lnTo>
                <a:lnTo>
                  <a:pt x="979" y="912"/>
                </a:lnTo>
              </a:path>
            </a:pathLst>
          </a:custGeom>
          <a:solidFill>
            <a:srgbClr val="ccffcc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8120" y="4013280"/>
            <a:ext cx="474480" cy="393480"/>
          </a:xfrm>
          <a:custGeom>
            <a:avLst/>
            <a:gdLst/>
            <a:ahLst/>
            <a:rect l="l" t="t" r="r" b="b"/>
            <a:pathLst>
              <a:path w="828" h="746">
                <a:moveTo>
                  <a:pt x="828" y="500"/>
                </a:moveTo>
                <a:lnTo>
                  <a:pt x="773" y="331"/>
                </a:lnTo>
                <a:lnTo>
                  <a:pt x="0" y="0"/>
                </a:lnTo>
                <a:lnTo>
                  <a:pt x="25" y="219"/>
                </a:lnTo>
                <a:lnTo>
                  <a:pt x="398" y="674"/>
                </a:lnTo>
                <a:lnTo>
                  <a:pt x="532" y="725"/>
                </a:lnTo>
                <a:lnTo>
                  <a:pt x="602" y="745"/>
                </a:lnTo>
                <a:lnTo>
                  <a:pt x="660" y="746"/>
                </a:lnTo>
                <a:lnTo>
                  <a:pt x="828" y="5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68840" y="3193920"/>
            <a:ext cx="466560" cy="400320"/>
          </a:xfrm>
          <a:custGeom>
            <a:avLst/>
            <a:gdLst/>
            <a:ahLst/>
            <a:rect l="l" t="t" r="r" b="b"/>
            <a:pathLst>
              <a:path w="813" h="756">
                <a:moveTo>
                  <a:pt x="659" y="625"/>
                </a:moveTo>
                <a:lnTo>
                  <a:pt x="813" y="110"/>
                </a:lnTo>
                <a:lnTo>
                  <a:pt x="555" y="0"/>
                </a:lnTo>
                <a:lnTo>
                  <a:pt x="0" y="223"/>
                </a:lnTo>
                <a:lnTo>
                  <a:pt x="127" y="630"/>
                </a:lnTo>
                <a:lnTo>
                  <a:pt x="390" y="756"/>
                </a:lnTo>
                <a:lnTo>
                  <a:pt x="659" y="62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92520" y="3500280"/>
            <a:ext cx="484200" cy="536760"/>
          </a:xfrm>
          <a:custGeom>
            <a:avLst/>
            <a:gdLst/>
            <a:ahLst/>
            <a:rect l="l" t="t" r="r" b="b"/>
            <a:pathLst>
              <a:path w="843" h="1016">
                <a:moveTo>
                  <a:pt x="843" y="87"/>
                </a:moveTo>
                <a:lnTo>
                  <a:pt x="814" y="0"/>
                </a:lnTo>
                <a:lnTo>
                  <a:pt x="544" y="132"/>
                </a:lnTo>
                <a:lnTo>
                  <a:pt x="279" y="2"/>
                </a:lnTo>
                <a:lnTo>
                  <a:pt x="0" y="445"/>
                </a:lnTo>
                <a:lnTo>
                  <a:pt x="252" y="1016"/>
                </a:lnTo>
                <a:lnTo>
                  <a:pt x="843" y="87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62360" y="3963960"/>
            <a:ext cx="416160" cy="357120"/>
          </a:xfrm>
          <a:custGeom>
            <a:avLst/>
            <a:gdLst/>
            <a:ahLst/>
            <a:rect l="l" t="t" r="r" b="b"/>
            <a:pathLst>
              <a:path w="724" h="673">
                <a:moveTo>
                  <a:pt x="547" y="632"/>
                </a:moveTo>
                <a:lnTo>
                  <a:pt x="591" y="595"/>
                </a:lnTo>
                <a:lnTo>
                  <a:pt x="626" y="553"/>
                </a:lnTo>
                <a:lnTo>
                  <a:pt x="672" y="563"/>
                </a:lnTo>
                <a:lnTo>
                  <a:pt x="700" y="575"/>
                </a:lnTo>
                <a:lnTo>
                  <a:pt x="724" y="601"/>
                </a:lnTo>
                <a:lnTo>
                  <a:pt x="578" y="383"/>
                </a:lnTo>
                <a:lnTo>
                  <a:pt x="438" y="199"/>
                </a:lnTo>
                <a:lnTo>
                  <a:pt x="230" y="0"/>
                </a:lnTo>
                <a:lnTo>
                  <a:pt x="109" y="189"/>
                </a:lnTo>
                <a:lnTo>
                  <a:pt x="0" y="422"/>
                </a:lnTo>
                <a:lnTo>
                  <a:pt x="54" y="587"/>
                </a:lnTo>
                <a:lnTo>
                  <a:pt x="305" y="660"/>
                </a:lnTo>
                <a:lnTo>
                  <a:pt x="395" y="673"/>
                </a:lnTo>
                <a:lnTo>
                  <a:pt x="462" y="669"/>
                </a:lnTo>
                <a:lnTo>
                  <a:pt x="514" y="651"/>
                </a:lnTo>
                <a:lnTo>
                  <a:pt x="547" y="632"/>
                </a:lnTo>
              </a:path>
            </a:pathLst>
          </a:custGeom>
          <a:solidFill>
            <a:srgbClr val="ccffcc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8520" y="3573360"/>
            <a:ext cx="573120" cy="608040"/>
          </a:xfrm>
          <a:custGeom>
            <a:avLst/>
            <a:gdLst/>
            <a:ahLst/>
            <a:rect l="l" t="t" r="r" b="b"/>
            <a:pathLst>
              <a:path w="1000" h="1150">
                <a:moveTo>
                  <a:pt x="827" y="0"/>
                </a:moveTo>
                <a:lnTo>
                  <a:pt x="473" y="22"/>
                </a:lnTo>
                <a:lnTo>
                  <a:pt x="0" y="766"/>
                </a:lnTo>
                <a:lnTo>
                  <a:pt x="214" y="969"/>
                </a:lnTo>
                <a:lnTo>
                  <a:pt x="344" y="1150"/>
                </a:lnTo>
                <a:lnTo>
                  <a:pt x="448" y="1008"/>
                </a:lnTo>
                <a:lnTo>
                  <a:pt x="482" y="1034"/>
                </a:lnTo>
                <a:lnTo>
                  <a:pt x="561" y="868"/>
                </a:lnTo>
                <a:lnTo>
                  <a:pt x="861" y="937"/>
                </a:lnTo>
                <a:lnTo>
                  <a:pt x="1000" y="767"/>
                </a:lnTo>
                <a:lnTo>
                  <a:pt x="827" y="0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48280" y="2994120"/>
            <a:ext cx="655560" cy="577800"/>
          </a:xfrm>
          <a:custGeom>
            <a:avLst/>
            <a:gdLst/>
            <a:ahLst/>
            <a:rect l="l" t="t" r="r" b="b"/>
            <a:pathLst>
              <a:path w="1147" h="1091">
                <a:moveTo>
                  <a:pt x="1147" y="911"/>
                </a:moveTo>
                <a:lnTo>
                  <a:pt x="906" y="475"/>
                </a:lnTo>
                <a:lnTo>
                  <a:pt x="693" y="0"/>
                </a:lnTo>
                <a:lnTo>
                  <a:pt x="442" y="38"/>
                </a:lnTo>
                <a:lnTo>
                  <a:pt x="154" y="495"/>
                </a:lnTo>
                <a:lnTo>
                  <a:pt x="0" y="1005"/>
                </a:lnTo>
                <a:lnTo>
                  <a:pt x="32" y="1091"/>
                </a:lnTo>
                <a:lnTo>
                  <a:pt x="384" y="1069"/>
                </a:lnTo>
                <a:lnTo>
                  <a:pt x="1147" y="9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67160" y="3475080"/>
            <a:ext cx="584280" cy="506520"/>
          </a:xfrm>
          <a:custGeom>
            <a:avLst/>
            <a:gdLst/>
            <a:ahLst/>
            <a:rect l="l" t="t" r="r" b="b"/>
            <a:pathLst>
              <a:path w="1018" h="957">
                <a:moveTo>
                  <a:pt x="638" y="757"/>
                </a:moveTo>
                <a:lnTo>
                  <a:pt x="568" y="676"/>
                </a:lnTo>
                <a:lnTo>
                  <a:pt x="1016" y="243"/>
                </a:lnTo>
                <a:lnTo>
                  <a:pt x="1018" y="161"/>
                </a:lnTo>
                <a:lnTo>
                  <a:pt x="771" y="0"/>
                </a:lnTo>
                <a:lnTo>
                  <a:pt x="0" y="161"/>
                </a:lnTo>
                <a:lnTo>
                  <a:pt x="174" y="929"/>
                </a:lnTo>
                <a:lnTo>
                  <a:pt x="421" y="957"/>
                </a:lnTo>
                <a:lnTo>
                  <a:pt x="638" y="75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3184560"/>
            <a:ext cx="330120" cy="291960"/>
          </a:xfrm>
          <a:custGeom>
            <a:avLst/>
            <a:gdLst/>
            <a:ahLst/>
            <a:rect l="l" t="t" r="r" b="b"/>
            <a:pathLst>
              <a:path w="574" h="552">
                <a:moveTo>
                  <a:pt x="573" y="121"/>
                </a:moveTo>
                <a:lnTo>
                  <a:pt x="574" y="0"/>
                </a:lnTo>
                <a:lnTo>
                  <a:pt x="0" y="105"/>
                </a:lnTo>
                <a:lnTo>
                  <a:pt x="249" y="552"/>
                </a:lnTo>
                <a:lnTo>
                  <a:pt x="573" y="12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7080" y="3222720"/>
            <a:ext cx="458640" cy="339480"/>
          </a:xfrm>
          <a:custGeom>
            <a:avLst/>
            <a:gdLst/>
            <a:ahLst/>
            <a:rect l="l" t="t" r="r" b="b"/>
            <a:pathLst>
              <a:path w="799" h="642">
                <a:moveTo>
                  <a:pt x="321" y="50"/>
                </a:moveTo>
                <a:lnTo>
                  <a:pt x="0" y="475"/>
                </a:lnTo>
                <a:lnTo>
                  <a:pt x="257" y="642"/>
                </a:lnTo>
                <a:lnTo>
                  <a:pt x="748" y="320"/>
                </a:lnTo>
                <a:lnTo>
                  <a:pt x="799" y="111"/>
                </a:lnTo>
                <a:lnTo>
                  <a:pt x="325" y="0"/>
                </a:lnTo>
                <a:lnTo>
                  <a:pt x="321" y="5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43560" y="2963880"/>
            <a:ext cx="446040" cy="274680"/>
          </a:xfrm>
          <a:custGeom>
            <a:avLst/>
            <a:gdLst/>
            <a:ahLst/>
            <a:rect l="l" t="t" r="r" b="b"/>
            <a:pathLst>
              <a:path w="782" h="520">
                <a:moveTo>
                  <a:pt x="309" y="0"/>
                </a:moveTo>
                <a:lnTo>
                  <a:pt x="0" y="58"/>
                </a:lnTo>
                <a:lnTo>
                  <a:pt x="211" y="520"/>
                </a:lnTo>
                <a:lnTo>
                  <a:pt x="782" y="416"/>
                </a:lnTo>
                <a:lnTo>
                  <a:pt x="30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19600" y="2262240"/>
            <a:ext cx="366840" cy="903240"/>
          </a:xfrm>
          <a:custGeom>
            <a:avLst/>
            <a:gdLst/>
            <a:ahLst/>
            <a:rect l="l" t="t" r="r" b="b"/>
            <a:pathLst>
              <a:path w="641" h="1707">
                <a:moveTo>
                  <a:pt x="641" y="874"/>
                </a:moveTo>
                <a:lnTo>
                  <a:pt x="253" y="10"/>
                </a:lnTo>
                <a:lnTo>
                  <a:pt x="175" y="0"/>
                </a:lnTo>
                <a:lnTo>
                  <a:pt x="227" y="1177"/>
                </a:lnTo>
                <a:lnTo>
                  <a:pt x="0" y="1319"/>
                </a:lnTo>
                <a:lnTo>
                  <a:pt x="435" y="1707"/>
                </a:lnTo>
                <a:lnTo>
                  <a:pt x="641" y="874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2655720"/>
            <a:ext cx="555840" cy="628920"/>
          </a:xfrm>
          <a:custGeom>
            <a:avLst/>
            <a:gdLst/>
            <a:ahLst/>
            <a:rect l="l" t="t" r="r" b="b"/>
            <a:pathLst>
              <a:path w="971" h="1187">
                <a:moveTo>
                  <a:pt x="0" y="963"/>
                </a:moveTo>
                <a:lnTo>
                  <a:pt x="41" y="1011"/>
                </a:lnTo>
                <a:lnTo>
                  <a:pt x="43" y="1079"/>
                </a:lnTo>
                <a:lnTo>
                  <a:pt x="514" y="1187"/>
                </a:lnTo>
                <a:lnTo>
                  <a:pt x="827" y="1152"/>
                </a:lnTo>
                <a:lnTo>
                  <a:pt x="971" y="746"/>
                </a:lnTo>
                <a:lnTo>
                  <a:pt x="904" y="183"/>
                </a:lnTo>
                <a:lnTo>
                  <a:pt x="692" y="0"/>
                </a:lnTo>
                <a:lnTo>
                  <a:pt x="204" y="130"/>
                </a:lnTo>
                <a:lnTo>
                  <a:pt x="0" y="96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48200" y="3263760"/>
            <a:ext cx="676440" cy="460440"/>
          </a:xfrm>
          <a:custGeom>
            <a:avLst/>
            <a:gdLst/>
            <a:ahLst/>
            <a:rect l="l" t="t" r="r" b="b"/>
            <a:pathLst>
              <a:path w="1179" h="870">
                <a:moveTo>
                  <a:pt x="799" y="384"/>
                </a:moveTo>
                <a:lnTo>
                  <a:pt x="936" y="421"/>
                </a:lnTo>
                <a:lnTo>
                  <a:pt x="1147" y="421"/>
                </a:lnTo>
                <a:lnTo>
                  <a:pt x="1179" y="221"/>
                </a:lnTo>
                <a:lnTo>
                  <a:pt x="855" y="0"/>
                </a:lnTo>
                <a:lnTo>
                  <a:pt x="554" y="30"/>
                </a:lnTo>
                <a:lnTo>
                  <a:pt x="502" y="242"/>
                </a:lnTo>
                <a:lnTo>
                  <a:pt x="3" y="566"/>
                </a:lnTo>
                <a:lnTo>
                  <a:pt x="0" y="645"/>
                </a:lnTo>
                <a:lnTo>
                  <a:pt x="415" y="870"/>
                </a:lnTo>
                <a:lnTo>
                  <a:pt x="593" y="870"/>
                </a:lnTo>
                <a:lnTo>
                  <a:pt x="799" y="3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87840" y="2905200"/>
            <a:ext cx="397080" cy="406440"/>
          </a:xfrm>
          <a:custGeom>
            <a:avLst/>
            <a:gdLst/>
            <a:ahLst/>
            <a:rect l="l" t="t" r="r" b="b"/>
            <a:pathLst>
              <a:path w="693" h="768">
                <a:moveTo>
                  <a:pt x="274" y="0"/>
                </a:moveTo>
                <a:lnTo>
                  <a:pt x="0" y="290"/>
                </a:lnTo>
                <a:lnTo>
                  <a:pt x="147" y="768"/>
                </a:lnTo>
                <a:lnTo>
                  <a:pt x="693" y="549"/>
                </a:lnTo>
                <a:lnTo>
                  <a:pt x="568" y="19"/>
                </a:lnTo>
                <a:lnTo>
                  <a:pt x="274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35480" y="2255760"/>
            <a:ext cx="513000" cy="757440"/>
          </a:xfrm>
          <a:custGeom>
            <a:avLst/>
            <a:gdLst/>
            <a:ahLst/>
            <a:rect l="l" t="t" r="r" b="b"/>
            <a:pathLst>
              <a:path w="897" h="1431">
                <a:moveTo>
                  <a:pt x="897" y="1187"/>
                </a:moveTo>
                <a:lnTo>
                  <a:pt x="846" y="0"/>
                </a:lnTo>
                <a:lnTo>
                  <a:pt x="713" y="9"/>
                </a:lnTo>
                <a:lnTo>
                  <a:pt x="626" y="426"/>
                </a:lnTo>
                <a:lnTo>
                  <a:pt x="421" y="466"/>
                </a:lnTo>
                <a:lnTo>
                  <a:pt x="275" y="572"/>
                </a:lnTo>
                <a:lnTo>
                  <a:pt x="0" y="1138"/>
                </a:lnTo>
                <a:lnTo>
                  <a:pt x="115" y="1431"/>
                </a:lnTo>
                <a:lnTo>
                  <a:pt x="364" y="1394"/>
                </a:lnTo>
                <a:lnTo>
                  <a:pt x="666" y="1337"/>
                </a:lnTo>
                <a:lnTo>
                  <a:pt x="897" y="118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46800" y="2057400"/>
            <a:ext cx="290520" cy="444600"/>
          </a:xfrm>
          <a:custGeom>
            <a:avLst/>
            <a:gdLst/>
            <a:ahLst/>
            <a:rect l="l" t="t" r="r" b="b"/>
            <a:pathLst>
              <a:path w="507" h="841">
                <a:moveTo>
                  <a:pt x="346" y="383"/>
                </a:moveTo>
                <a:lnTo>
                  <a:pt x="479" y="378"/>
                </a:lnTo>
                <a:lnTo>
                  <a:pt x="507" y="239"/>
                </a:lnTo>
                <a:lnTo>
                  <a:pt x="396" y="9"/>
                </a:lnTo>
                <a:lnTo>
                  <a:pt x="310" y="0"/>
                </a:lnTo>
                <a:lnTo>
                  <a:pt x="100" y="153"/>
                </a:lnTo>
                <a:lnTo>
                  <a:pt x="56" y="180"/>
                </a:lnTo>
                <a:lnTo>
                  <a:pt x="22" y="191"/>
                </a:lnTo>
                <a:lnTo>
                  <a:pt x="0" y="191"/>
                </a:lnTo>
                <a:lnTo>
                  <a:pt x="51" y="841"/>
                </a:lnTo>
                <a:lnTo>
                  <a:pt x="258" y="803"/>
                </a:lnTo>
                <a:lnTo>
                  <a:pt x="346" y="38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72160" y="2031840"/>
            <a:ext cx="447480" cy="290520"/>
          </a:xfrm>
          <a:custGeom>
            <a:avLst/>
            <a:gdLst/>
            <a:ahLst/>
            <a:rect l="l" t="t" r="r" b="b"/>
            <a:pathLst>
              <a:path w="778" h="549">
                <a:moveTo>
                  <a:pt x="653" y="444"/>
                </a:moveTo>
                <a:lnTo>
                  <a:pt x="729" y="362"/>
                </a:lnTo>
                <a:lnTo>
                  <a:pt x="756" y="319"/>
                </a:lnTo>
                <a:lnTo>
                  <a:pt x="775" y="284"/>
                </a:lnTo>
                <a:lnTo>
                  <a:pt x="778" y="260"/>
                </a:lnTo>
                <a:lnTo>
                  <a:pt x="777" y="232"/>
                </a:lnTo>
                <a:lnTo>
                  <a:pt x="729" y="146"/>
                </a:lnTo>
                <a:lnTo>
                  <a:pt x="612" y="0"/>
                </a:lnTo>
                <a:lnTo>
                  <a:pt x="355" y="33"/>
                </a:lnTo>
                <a:lnTo>
                  <a:pt x="165" y="54"/>
                </a:lnTo>
                <a:lnTo>
                  <a:pt x="57" y="57"/>
                </a:lnTo>
                <a:lnTo>
                  <a:pt x="0" y="57"/>
                </a:lnTo>
                <a:lnTo>
                  <a:pt x="111" y="285"/>
                </a:lnTo>
                <a:lnTo>
                  <a:pt x="569" y="549"/>
                </a:lnTo>
                <a:lnTo>
                  <a:pt x="577" y="534"/>
                </a:lnTo>
                <a:lnTo>
                  <a:pt x="653" y="4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9680" y="2184480"/>
            <a:ext cx="655560" cy="538200"/>
          </a:xfrm>
          <a:custGeom>
            <a:avLst/>
            <a:gdLst/>
            <a:ahLst/>
            <a:rect l="l" t="t" r="r" b="b"/>
            <a:pathLst>
              <a:path w="1143" h="1018">
                <a:moveTo>
                  <a:pt x="0" y="146"/>
                </a:moveTo>
                <a:lnTo>
                  <a:pt x="80" y="157"/>
                </a:lnTo>
                <a:lnTo>
                  <a:pt x="465" y="1018"/>
                </a:lnTo>
                <a:lnTo>
                  <a:pt x="952" y="886"/>
                </a:lnTo>
                <a:lnTo>
                  <a:pt x="1143" y="753"/>
                </a:lnTo>
                <a:lnTo>
                  <a:pt x="905" y="334"/>
                </a:lnTo>
                <a:lnTo>
                  <a:pt x="483" y="322"/>
                </a:lnTo>
                <a:lnTo>
                  <a:pt x="488" y="262"/>
                </a:lnTo>
                <a:lnTo>
                  <a:pt x="31" y="0"/>
                </a:lnTo>
                <a:lnTo>
                  <a:pt x="0" y="14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2276640"/>
            <a:ext cx="465120" cy="328320"/>
          </a:xfrm>
          <a:custGeom>
            <a:avLst/>
            <a:gdLst/>
            <a:ahLst/>
            <a:rect l="l" t="t" r="r" b="b"/>
            <a:pathLst>
              <a:path w="811" h="622">
                <a:moveTo>
                  <a:pt x="0" y="205"/>
                </a:moveTo>
                <a:lnTo>
                  <a:pt x="236" y="622"/>
                </a:lnTo>
                <a:lnTo>
                  <a:pt x="480" y="551"/>
                </a:lnTo>
                <a:lnTo>
                  <a:pt x="570" y="459"/>
                </a:lnTo>
                <a:lnTo>
                  <a:pt x="811" y="295"/>
                </a:lnTo>
                <a:lnTo>
                  <a:pt x="688" y="0"/>
                </a:lnTo>
                <a:lnTo>
                  <a:pt x="445" y="22"/>
                </a:lnTo>
                <a:lnTo>
                  <a:pt x="322" y="46"/>
                </a:lnTo>
                <a:lnTo>
                  <a:pt x="237" y="72"/>
                </a:lnTo>
                <a:lnTo>
                  <a:pt x="189" y="90"/>
                </a:lnTo>
                <a:lnTo>
                  <a:pt x="141" y="112"/>
                </a:lnTo>
                <a:lnTo>
                  <a:pt x="98" y="137"/>
                </a:lnTo>
                <a:lnTo>
                  <a:pt x="0" y="205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9560" y="2603520"/>
            <a:ext cx="330120" cy="206280"/>
          </a:xfrm>
          <a:custGeom>
            <a:avLst/>
            <a:gdLst/>
            <a:ahLst/>
            <a:rect l="l" t="t" r="r" b="b"/>
            <a:pathLst>
              <a:path w="577" h="390">
                <a:moveTo>
                  <a:pt x="42" y="0"/>
                </a:moveTo>
                <a:lnTo>
                  <a:pt x="0" y="234"/>
                </a:lnTo>
                <a:lnTo>
                  <a:pt x="510" y="390"/>
                </a:lnTo>
                <a:lnTo>
                  <a:pt x="577" y="262"/>
                </a:lnTo>
                <a:lnTo>
                  <a:pt x="483" y="23"/>
                </a:lnTo>
                <a:lnTo>
                  <a:pt x="42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21400" y="2414520"/>
            <a:ext cx="484200" cy="358920"/>
          </a:xfrm>
          <a:custGeom>
            <a:avLst/>
            <a:gdLst/>
            <a:ahLst/>
            <a:rect l="l" t="t" r="r" b="b"/>
            <a:pathLst>
              <a:path w="281" h="226">
                <a:moveTo>
                  <a:pt x="42" y="137"/>
                </a:moveTo>
                <a:lnTo>
                  <a:pt x="188" y="145"/>
                </a:lnTo>
                <a:lnTo>
                  <a:pt x="221" y="226"/>
                </a:lnTo>
                <a:lnTo>
                  <a:pt x="281" y="226"/>
                </a:lnTo>
                <a:lnTo>
                  <a:pt x="279" y="50"/>
                </a:lnTo>
                <a:lnTo>
                  <a:pt x="267" y="27"/>
                </a:lnTo>
                <a:lnTo>
                  <a:pt x="225" y="3"/>
                </a:lnTo>
                <a:lnTo>
                  <a:pt x="108" y="0"/>
                </a:lnTo>
                <a:lnTo>
                  <a:pt x="120" y="0"/>
                </a:lnTo>
                <a:lnTo>
                  <a:pt x="30" y="69"/>
                </a:lnTo>
                <a:lnTo>
                  <a:pt x="0" y="100"/>
                </a:lnTo>
                <a:lnTo>
                  <a:pt x="42" y="137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42120" y="3046320"/>
            <a:ext cx="438120" cy="335160"/>
          </a:xfrm>
          <a:custGeom>
            <a:avLst/>
            <a:gdLst/>
            <a:ahLst/>
            <a:rect l="l" t="t" r="r" b="b"/>
            <a:pathLst>
              <a:path w="763" h="635">
                <a:moveTo>
                  <a:pt x="0" y="422"/>
                </a:moveTo>
                <a:lnTo>
                  <a:pt x="316" y="635"/>
                </a:lnTo>
                <a:lnTo>
                  <a:pt x="579" y="585"/>
                </a:lnTo>
                <a:lnTo>
                  <a:pt x="763" y="160"/>
                </a:lnTo>
                <a:lnTo>
                  <a:pt x="147" y="0"/>
                </a:lnTo>
                <a:lnTo>
                  <a:pt x="0" y="4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72280" y="2284560"/>
            <a:ext cx="987480" cy="519120"/>
          </a:xfrm>
          <a:custGeom>
            <a:avLst/>
            <a:gdLst/>
            <a:ahLst/>
            <a:rect l="l" t="t" r="r" b="b"/>
            <a:pathLst>
              <a:path w="1726" h="979">
                <a:moveTo>
                  <a:pt x="21" y="409"/>
                </a:moveTo>
                <a:lnTo>
                  <a:pt x="0" y="955"/>
                </a:lnTo>
                <a:lnTo>
                  <a:pt x="284" y="979"/>
                </a:lnTo>
                <a:lnTo>
                  <a:pt x="559" y="542"/>
                </a:lnTo>
                <a:lnTo>
                  <a:pt x="1172" y="594"/>
                </a:lnTo>
                <a:lnTo>
                  <a:pt x="1706" y="461"/>
                </a:lnTo>
                <a:lnTo>
                  <a:pt x="1726" y="298"/>
                </a:lnTo>
                <a:lnTo>
                  <a:pt x="645" y="0"/>
                </a:lnTo>
                <a:lnTo>
                  <a:pt x="602" y="10"/>
                </a:lnTo>
                <a:lnTo>
                  <a:pt x="549" y="29"/>
                </a:lnTo>
                <a:lnTo>
                  <a:pt x="489" y="65"/>
                </a:lnTo>
                <a:lnTo>
                  <a:pt x="440" y="106"/>
                </a:lnTo>
                <a:lnTo>
                  <a:pt x="349" y="205"/>
                </a:lnTo>
                <a:lnTo>
                  <a:pt x="302" y="204"/>
                </a:lnTo>
                <a:lnTo>
                  <a:pt x="291" y="188"/>
                </a:lnTo>
                <a:lnTo>
                  <a:pt x="21" y="4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2743200"/>
            <a:ext cx="522360" cy="627120"/>
          </a:xfrm>
          <a:custGeom>
            <a:avLst/>
            <a:gdLst/>
            <a:ahLst/>
            <a:rect l="l" t="t" r="r" b="b"/>
            <a:pathLst>
              <a:path w="909" h="1184">
                <a:moveTo>
                  <a:pt x="573" y="1184"/>
                </a:moveTo>
                <a:lnTo>
                  <a:pt x="769" y="1087"/>
                </a:lnTo>
                <a:lnTo>
                  <a:pt x="717" y="798"/>
                </a:lnTo>
                <a:lnTo>
                  <a:pt x="909" y="459"/>
                </a:lnTo>
                <a:lnTo>
                  <a:pt x="845" y="109"/>
                </a:lnTo>
                <a:lnTo>
                  <a:pt x="553" y="89"/>
                </a:lnTo>
                <a:lnTo>
                  <a:pt x="251" y="0"/>
                </a:lnTo>
                <a:lnTo>
                  <a:pt x="71" y="2"/>
                </a:lnTo>
                <a:lnTo>
                  <a:pt x="0" y="125"/>
                </a:lnTo>
                <a:lnTo>
                  <a:pt x="37" y="630"/>
                </a:lnTo>
                <a:lnTo>
                  <a:pt x="573" y="11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0200" y="3768840"/>
            <a:ext cx="480960" cy="285480"/>
          </a:xfrm>
          <a:custGeom>
            <a:avLst/>
            <a:gdLst/>
            <a:ahLst/>
            <a:rect l="l" t="t" r="r" b="b"/>
            <a:pathLst>
              <a:path w="839" h="540">
                <a:moveTo>
                  <a:pt x="145" y="42"/>
                </a:moveTo>
                <a:lnTo>
                  <a:pt x="0" y="296"/>
                </a:lnTo>
                <a:lnTo>
                  <a:pt x="274" y="476"/>
                </a:lnTo>
                <a:lnTo>
                  <a:pt x="289" y="540"/>
                </a:lnTo>
                <a:lnTo>
                  <a:pt x="839" y="202"/>
                </a:lnTo>
                <a:lnTo>
                  <a:pt x="827" y="0"/>
                </a:lnTo>
                <a:lnTo>
                  <a:pt x="145" y="4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16880" y="3875040"/>
            <a:ext cx="585720" cy="449280"/>
          </a:xfrm>
          <a:custGeom>
            <a:avLst/>
            <a:gdLst/>
            <a:ahLst/>
            <a:rect l="l" t="t" r="r" b="b"/>
            <a:pathLst>
              <a:path w="1024" h="847">
                <a:moveTo>
                  <a:pt x="0" y="336"/>
                </a:moveTo>
                <a:lnTo>
                  <a:pt x="28" y="429"/>
                </a:lnTo>
                <a:lnTo>
                  <a:pt x="164" y="547"/>
                </a:lnTo>
                <a:lnTo>
                  <a:pt x="322" y="646"/>
                </a:lnTo>
                <a:lnTo>
                  <a:pt x="413" y="823"/>
                </a:lnTo>
                <a:lnTo>
                  <a:pt x="561" y="847"/>
                </a:lnTo>
                <a:lnTo>
                  <a:pt x="545" y="589"/>
                </a:lnTo>
                <a:lnTo>
                  <a:pt x="1024" y="402"/>
                </a:lnTo>
                <a:lnTo>
                  <a:pt x="851" y="119"/>
                </a:lnTo>
                <a:lnTo>
                  <a:pt x="552" y="0"/>
                </a:lnTo>
                <a:lnTo>
                  <a:pt x="0" y="3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39040" y="3487680"/>
            <a:ext cx="608040" cy="303120"/>
          </a:xfrm>
          <a:custGeom>
            <a:avLst/>
            <a:gdLst/>
            <a:ahLst/>
            <a:rect l="l" t="t" r="r" b="b"/>
            <a:pathLst>
              <a:path w="1060" h="573">
                <a:moveTo>
                  <a:pt x="0" y="0"/>
                </a:moveTo>
                <a:lnTo>
                  <a:pt x="168" y="573"/>
                </a:lnTo>
                <a:lnTo>
                  <a:pt x="850" y="535"/>
                </a:lnTo>
                <a:lnTo>
                  <a:pt x="1060" y="462"/>
                </a:lnTo>
                <a:lnTo>
                  <a:pt x="989" y="159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32840" y="2571840"/>
            <a:ext cx="512640" cy="415800"/>
          </a:xfrm>
          <a:custGeom>
            <a:avLst/>
            <a:gdLst/>
            <a:ahLst/>
            <a:rect l="l" t="t" r="r" b="b"/>
            <a:pathLst>
              <a:path w="894" h="785">
                <a:moveTo>
                  <a:pt x="278" y="0"/>
                </a:moveTo>
                <a:lnTo>
                  <a:pt x="0" y="435"/>
                </a:lnTo>
                <a:lnTo>
                  <a:pt x="65" y="785"/>
                </a:lnTo>
                <a:lnTo>
                  <a:pt x="590" y="724"/>
                </a:lnTo>
                <a:lnTo>
                  <a:pt x="684" y="543"/>
                </a:lnTo>
                <a:lnTo>
                  <a:pt x="490" y="507"/>
                </a:lnTo>
                <a:lnTo>
                  <a:pt x="487" y="225"/>
                </a:lnTo>
                <a:lnTo>
                  <a:pt x="840" y="198"/>
                </a:lnTo>
                <a:lnTo>
                  <a:pt x="894" y="51"/>
                </a:lnTo>
                <a:lnTo>
                  <a:pt x="278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12200" y="2676600"/>
            <a:ext cx="203040" cy="181080"/>
          </a:xfrm>
          <a:custGeom>
            <a:avLst/>
            <a:gdLst/>
            <a:ahLst/>
            <a:rect l="l" t="t" r="r" b="b"/>
            <a:pathLst>
              <a:path w="355" h="343">
                <a:moveTo>
                  <a:pt x="0" y="27"/>
                </a:moveTo>
                <a:lnTo>
                  <a:pt x="3" y="309"/>
                </a:lnTo>
                <a:lnTo>
                  <a:pt x="199" y="343"/>
                </a:lnTo>
                <a:lnTo>
                  <a:pt x="355" y="0"/>
                </a:lnTo>
                <a:lnTo>
                  <a:pt x="0" y="2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69080" y="2529000"/>
            <a:ext cx="1082880" cy="649080"/>
          </a:xfrm>
          <a:custGeom>
            <a:avLst/>
            <a:gdLst/>
            <a:ahLst/>
            <a:rect l="l" t="t" r="r" b="b"/>
            <a:pathLst>
              <a:path w="1886" h="1228">
                <a:moveTo>
                  <a:pt x="631" y="1228"/>
                </a:moveTo>
                <a:lnTo>
                  <a:pt x="757" y="1005"/>
                </a:lnTo>
                <a:lnTo>
                  <a:pt x="1068" y="1029"/>
                </a:lnTo>
                <a:lnTo>
                  <a:pt x="1194" y="743"/>
                </a:lnTo>
                <a:lnTo>
                  <a:pt x="1575" y="794"/>
                </a:lnTo>
                <a:lnTo>
                  <a:pt x="1602" y="883"/>
                </a:lnTo>
                <a:lnTo>
                  <a:pt x="1869" y="833"/>
                </a:lnTo>
                <a:lnTo>
                  <a:pt x="1879" y="664"/>
                </a:lnTo>
                <a:lnTo>
                  <a:pt x="1886" y="554"/>
                </a:lnTo>
                <a:lnTo>
                  <a:pt x="1879" y="446"/>
                </a:lnTo>
                <a:lnTo>
                  <a:pt x="1632" y="298"/>
                </a:lnTo>
                <a:lnTo>
                  <a:pt x="1519" y="238"/>
                </a:lnTo>
                <a:lnTo>
                  <a:pt x="1446" y="205"/>
                </a:lnTo>
                <a:lnTo>
                  <a:pt x="1373" y="176"/>
                </a:lnTo>
                <a:lnTo>
                  <a:pt x="1294" y="152"/>
                </a:lnTo>
                <a:lnTo>
                  <a:pt x="1255" y="145"/>
                </a:lnTo>
                <a:lnTo>
                  <a:pt x="1198" y="132"/>
                </a:lnTo>
                <a:lnTo>
                  <a:pt x="1158" y="127"/>
                </a:lnTo>
                <a:lnTo>
                  <a:pt x="837" y="637"/>
                </a:lnTo>
                <a:lnTo>
                  <a:pt x="522" y="485"/>
                </a:lnTo>
                <a:lnTo>
                  <a:pt x="464" y="294"/>
                </a:lnTo>
                <a:lnTo>
                  <a:pt x="829" y="103"/>
                </a:lnTo>
                <a:lnTo>
                  <a:pt x="835" y="0"/>
                </a:lnTo>
                <a:lnTo>
                  <a:pt x="305" y="133"/>
                </a:lnTo>
                <a:lnTo>
                  <a:pt x="252" y="274"/>
                </a:lnTo>
                <a:lnTo>
                  <a:pt x="100" y="615"/>
                </a:lnTo>
                <a:lnTo>
                  <a:pt x="0" y="808"/>
                </a:lnTo>
                <a:lnTo>
                  <a:pt x="79" y="1044"/>
                </a:lnTo>
                <a:lnTo>
                  <a:pt x="631" y="122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37640" y="2583000"/>
            <a:ext cx="396720" cy="284040"/>
          </a:xfrm>
          <a:custGeom>
            <a:avLst/>
            <a:gdLst/>
            <a:ahLst/>
            <a:rect l="l" t="t" r="r" b="b"/>
            <a:pathLst>
              <a:path w="694" h="537">
                <a:moveTo>
                  <a:pt x="0" y="193"/>
                </a:moveTo>
                <a:lnTo>
                  <a:pt x="59" y="383"/>
                </a:lnTo>
                <a:lnTo>
                  <a:pt x="374" y="537"/>
                </a:lnTo>
                <a:lnTo>
                  <a:pt x="694" y="26"/>
                </a:lnTo>
                <a:lnTo>
                  <a:pt x="616" y="13"/>
                </a:lnTo>
                <a:lnTo>
                  <a:pt x="526" y="7"/>
                </a:lnTo>
                <a:lnTo>
                  <a:pt x="367" y="0"/>
                </a:lnTo>
                <a:lnTo>
                  <a:pt x="0" y="19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62640" y="2955960"/>
            <a:ext cx="454320" cy="495360"/>
          </a:xfrm>
          <a:custGeom>
            <a:avLst/>
            <a:gdLst/>
            <a:ahLst/>
            <a:rect l="l" t="t" r="r" b="b"/>
            <a:pathLst>
              <a:path w="793" h="937">
                <a:moveTo>
                  <a:pt x="0" y="401"/>
                </a:moveTo>
                <a:lnTo>
                  <a:pt x="50" y="692"/>
                </a:lnTo>
                <a:lnTo>
                  <a:pt x="387" y="937"/>
                </a:lnTo>
                <a:lnTo>
                  <a:pt x="742" y="682"/>
                </a:lnTo>
                <a:lnTo>
                  <a:pt x="793" y="241"/>
                </a:lnTo>
                <a:lnTo>
                  <a:pt x="712" y="0"/>
                </a:lnTo>
                <a:lnTo>
                  <a:pt x="191" y="62"/>
                </a:lnTo>
                <a:lnTo>
                  <a:pt x="0" y="40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88160" y="3081240"/>
            <a:ext cx="344520" cy="263520"/>
          </a:xfrm>
          <a:custGeom>
            <a:avLst/>
            <a:gdLst/>
            <a:ahLst/>
            <a:rect l="l" t="t" r="r" b="b"/>
            <a:pathLst>
              <a:path w="602" h="498">
                <a:moveTo>
                  <a:pt x="51" y="0"/>
                </a:moveTo>
                <a:lnTo>
                  <a:pt x="0" y="448"/>
                </a:lnTo>
                <a:lnTo>
                  <a:pt x="224" y="498"/>
                </a:lnTo>
                <a:lnTo>
                  <a:pt x="602" y="439"/>
                </a:lnTo>
                <a:lnTo>
                  <a:pt x="599" y="187"/>
                </a:lnTo>
                <a:lnTo>
                  <a:pt x="51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75480" y="3078000"/>
            <a:ext cx="500040" cy="346320"/>
          </a:xfrm>
          <a:custGeom>
            <a:avLst/>
            <a:gdLst/>
            <a:ahLst/>
            <a:rect l="l" t="t" r="r" b="b"/>
            <a:pathLst>
              <a:path w="874" h="656">
                <a:moveTo>
                  <a:pt x="0" y="529"/>
                </a:moveTo>
                <a:lnTo>
                  <a:pt x="783" y="656"/>
                </a:lnTo>
                <a:lnTo>
                  <a:pt x="870" y="588"/>
                </a:lnTo>
                <a:lnTo>
                  <a:pt x="874" y="551"/>
                </a:lnTo>
                <a:lnTo>
                  <a:pt x="349" y="0"/>
                </a:lnTo>
                <a:lnTo>
                  <a:pt x="178" y="94"/>
                </a:lnTo>
                <a:lnTo>
                  <a:pt x="0" y="5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02320" y="3355920"/>
            <a:ext cx="620640" cy="216000"/>
          </a:xfrm>
          <a:custGeom>
            <a:avLst/>
            <a:gdLst/>
            <a:ahLst/>
            <a:rect l="l" t="t" r="r" b="b"/>
            <a:pathLst>
              <a:path w="1084" h="408">
                <a:moveTo>
                  <a:pt x="38" y="50"/>
                </a:moveTo>
                <a:lnTo>
                  <a:pt x="0" y="251"/>
                </a:lnTo>
                <a:lnTo>
                  <a:pt x="68" y="251"/>
                </a:lnTo>
                <a:lnTo>
                  <a:pt x="1055" y="408"/>
                </a:lnTo>
                <a:lnTo>
                  <a:pt x="1084" y="131"/>
                </a:lnTo>
                <a:lnTo>
                  <a:pt x="303" y="0"/>
                </a:lnTo>
                <a:lnTo>
                  <a:pt x="38" y="5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76960" y="3321000"/>
            <a:ext cx="306360" cy="223920"/>
          </a:xfrm>
          <a:custGeom>
            <a:avLst/>
            <a:gdLst/>
            <a:ahLst/>
            <a:rect l="l" t="t" r="r" b="b"/>
            <a:pathLst>
              <a:path w="536" h="422">
                <a:moveTo>
                  <a:pt x="536" y="242"/>
                </a:moveTo>
                <a:lnTo>
                  <a:pt x="194" y="0"/>
                </a:lnTo>
                <a:lnTo>
                  <a:pt x="0" y="93"/>
                </a:lnTo>
                <a:lnTo>
                  <a:pt x="0" y="126"/>
                </a:lnTo>
                <a:lnTo>
                  <a:pt x="510" y="422"/>
                </a:lnTo>
                <a:lnTo>
                  <a:pt x="536" y="24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07120" y="3387600"/>
            <a:ext cx="392400" cy="424080"/>
          </a:xfrm>
          <a:custGeom>
            <a:avLst/>
            <a:gdLst/>
            <a:ahLst/>
            <a:rect l="l" t="t" r="r" b="b"/>
            <a:pathLst>
              <a:path w="683" h="800">
                <a:moveTo>
                  <a:pt x="0" y="351"/>
                </a:moveTo>
                <a:lnTo>
                  <a:pt x="62" y="652"/>
                </a:lnTo>
                <a:lnTo>
                  <a:pt x="332" y="800"/>
                </a:lnTo>
                <a:lnTo>
                  <a:pt x="611" y="663"/>
                </a:lnTo>
                <a:lnTo>
                  <a:pt x="683" y="391"/>
                </a:lnTo>
                <a:lnTo>
                  <a:pt x="629" y="293"/>
                </a:lnTo>
                <a:lnTo>
                  <a:pt x="113" y="0"/>
                </a:lnTo>
                <a:lnTo>
                  <a:pt x="26" y="74"/>
                </a:lnTo>
                <a:lnTo>
                  <a:pt x="0" y="35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24680" y="3732120"/>
            <a:ext cx="274680" cy="206640"/>
          </a:xfrm>
          <a:custGeom>
            <a:avLst/>
            <a:gdLst/>
            <a:ahLst/>
            <a:rect l="l" t="t" r="r" b="b"/>
            <a:pathLst>
              <a:path w="475" h="390">
                <a:moveTo>
                  <a:pt x="0" y="75"/>
                </a:moveTo>
                <a:lnTo>
                  <a:pt x="4" y="270"/>
                </a:lnTo>
                <a:lnTo>
                  <a:pt x="311" y="390"/>
                </a:lnTo>
                <a:lnTo>
                  <a:pt x="475" y="147"/>
                </a:lnTo>
                <a:lnTo>
                  <a:pt x="201" y="0"/>
                </a:lnTo>
                <a:lnTo>
                  <a:pt x="0" y="75"/>
                </a:lnTo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15280" y="4290840"/>
            <a:ext cx="401400" cy="579600"/>
          </a:xfrm>
          <a:custGeom>
            <a:avLst/>
            <a:gdLst/>
            <a:ahLst/>
            <a:rect l="l" t="t" r="r" b="b"/>
            <a:pathLst>
              <a:path w="699" h="1097">
                <a:moveTo>
                  <a:pt x="12" y="613"/>
                </a:moveTo>
                <a:lnTo>
                  <a:pt x="4" y="810"/>
                </a:lnTo>
                <a:lnTo>
                  <a:pt x="0" y="1060"/>
                </a:lnTo>
                <a:lnTo>
                  <a:pt x="60" y="1060"/>
                </a:lnTo>
                <a:lnTo>
                  <a:pt x="142" y="1067"/>
                </a:lnTo>
                <a:lnTo>
                  <a:pt x="186" y="1081"/>
                </a:lnTo>
                <a:lnTo>
                  <a:pt x="237" y="1097"/>
                </a:lnTo>
                <a:lnTo>
                  <a:pt x="620" y="768"/>
                </a:lnTo>
                <a:lnTo>
                  <a:pt x="699" y="518"/>
                </a:lnTo>
                <a:lnTo>
                  <a:pt x="276" y="326"/>
                </a:lnTo>
                <a:lnTo>
                  <a:pt x="189" y="0"/>
                </a:lnTo>
                <a:lnTo>
                  <a:pt x="53" y="4"/>
                </a:lnTo>
                <a:lnTo>
                  <a:pt x="12" y="613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53160" y="4699080"/>
            <a:ext cx="417600" cy="353880"/>
          </a:xfrm>
          <a:custGeom>
            <a:avLst/>
            <a:gdLst/>
            <a:ahLst/>
            <a:rect l="l" t="t" r="r" b="b"/>
            <a:pathLst>
              <a:path w="730" h="668">
                <a:moveTo>
                  <a:pt x="0" y="325"/>
                </a:moveTo>
                <a:lnTo>
                  <a:pt x="149" y="409"/>
                </a:lnTo>
                <a:lnTo>
                  <a:pt x="266" y="498"/>
                </a:lnTo>
                <a:lnTo>
                  <a:pt x="350" y="574"/>
                </a:lnTo>
                <a:lnTo>
                  <a:pt x="454" y="668"/>
                </a:lnTo>
                <a:lnTo>
                  <a:pt x="521" y="666"/>
                </a:lnTo>
                <a:lnTo>
                  <a:pt x="564" y="658"/>
                </a:lnTo>
                <a:lnTo>
                  <a:pt x="621" y="640"/>
                </a:lnTo>
                <a:lnTo>
                  <a:pt x="670" y="622"/>
                </a:lnTo>
                <a:lnTo>
                  <a:pt x="716" y="624"/>
                </a:lnTo>
                <a:lnTo>
                  <a:pt x="730" y="230"/>
                </a:lnTo>
                <a:lnTo>
                  <a:pt x="376" y="0"/>
                </a:lnTo>
                <a:lnTo>
                  <a:pt x="0" y="325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03960" y="3740040"/>
            <a:ext cx="371520" cy="401760"/>
          </a:xfrm>
          <a:custGeom>
            <a:avLst/>
            <a:gdLst/>
            <a:ahLst/>
            <a:rect l="l" t="t" r="r" b="b"/>
            <a:pathLst>
              <a:path w="650" h="760">
                <a:moveTo>
                  <a:pt x="164" y="136"/>
                </a:moveTo>
                <a:lnTo>
                  <a:pt x="0" y="371"/>
                </a:lnTo>
                <a:lnTo>
                  <a:pt x="174" y="663"/>
                </a:lnTo>
                <a:lnTo>
                  <a:pt x="357" y="760"/>
                </a:lnTo>
                <a:lnTo>
                  <a:pt x="650" y="278"/>
                </a:lnTo>
                <a:lnTo>
                  <a:pt x="597" y="184"/>
                </a:lnTo>
                <a:lnTo>
                  <a:pt x="442" y="0"/>
                </a:lnTo>
                <a:lnTo>
                  <a:pt x="164" y="1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07360" y="3889440"/>
            <a:ext cx="463320" cy="403200"/>
          </a:xfrm>
          <a:custGeom>
            <a:avLst/>
            <a:gdLst/>
            <a:ahLst/>
            <a:rect l="l" t="t" r="r" b="b"/>
            <a:pathLst>
              <a:path w="808" h="762">
                <a:moveTo>
                  <a:pt x="289" y="0"/>
                </a:moveTo>
                <a:lnTo>
                  <a:pt x="0" y="473"/>
                </a:lnTo>
                <a:lnTo>
                  <a:pt x="7" y="632"/>
                </a:lnTo>
                <a:lnTo>
                  <a:pt x="68" y="762"/>
                </a:lnTo>
                <a:lnTo>
                  <a:pt x="201" y="758"/>
                </a:lnTo>
                <a:lnTo>
                  <a:pt x="794" y="477"/>
                </a:lnTo>
                <a:lnTo>
                  <a:pt x="808" y="409"/>
                </a:lnTo>
                <a:lnTo>
                  <a:pt x="654" y="76"/>
                </a:lnTo>
                <a:lnTo>
                  <a:pt x="28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45240" y="4149720"/>
            <a:ext cx="479520" cy="426960"/>
          </a:xfrm>
          <a:custGeom>
            <a:avLst/>
            <a:gdLst/>
            <a:ahLst/>
            <a:rect l="l" t="t" r="r" b="b"/>
            <a:pathLst>
              <a:path w="834" h="805">
                <a:moveTo>
                  <a:pt x="0" y="284"/>
                </a:moveTo>
                <a:lnTo>
                  <a:pt x="82" y="610"/>
                </a:lnTo>
                <a:lnTo>
                  <a:pt x="507" y="805"/>
                </a:lnTo>
                <a:lnTo>
                  <a:pt x="774" y="741"/>
                </a:lnTo>
                <a:lnTo>
                  <a:pt x="834" y="223"/>
                </a:lnTo>
                <a:lnTo>
                  <a:pt x="591" y="0"/>
                </a:lnTo>
                <a:lnTo>
                  <a:pt x="0" y="284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69160" y="4530600"/>
            <a:ext cx="349200" cy="290520"/>
          </a:xfrm>
          <a:custGeom>
            <a:avLst/>
            <a:gdLst/>
            <a:ahLst/>
            <a:rect l="l" t="t" r="r" b="b"/>
            <a:pathLst>
              <a:path w="607" h="550">
                <a:moveTo>
                  <a:pt x="345" y="0"/>
                </a:moveTo>
                <a:lnTo>
                  <a:pt x="78" y="66"/>
                </a:lnTo>
                <a:lnTo>
                  <a:pt x="0" y="318"/>
                </a:lnTo>
                <a:lnTo>
                  <a:pt x="356" y="550"/>
                </a:lnTo>
                <a:lnTo>
                  <a:pt x="607" y="441"/>
                </a:lnTo>
                <a:lnTo>
                  <a:pt x="345" y="0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62840" y="4765680"/>
            <a:ext cx="385920" cy="289080"/>
          </a:xfrm>
          <a:custGeom>
            <a:avLst/>
            <a:gdLst/>
            <a:ahLst/>
            <a:rect l="l" t="t" r="r" b="b"/>
            <a:pathLst>
              <a:path w="672" h="547">
                <a:moveTo>
                  <a:pt x="0" y="500"/>
                </a:moveTo>
                <a:lnTo>
                  <a:pt x="80" y="516"/>
                </a:lnTo>
                <a:lnTo>
                  <a:pt x="184" y="529"/>
                </a:lnTo>
                <a:lnTo>
                  <a:pt x="284" y="541"/>
                </a:lnTo>
                <a:lnTo>
                  <a:pt x="387" y="547"/>
                </a:lnTo>
                <a:lnTo>
                  <a:pt x="672" y="545"/>
                </a:lnTo>
                <a:lnTo>
                  <a:pt x="390" y="137"/>
                </a:lnTo>
                <a:lnTo>
                  <a:pt x="269" y="0"/>
                </a:lnTo>
                <a:lnTo>
                  <a:pt x="14" y="110"/>
                </a:lnTo>
                <a:lnTo>
                  <a:pt x="0" y="500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77240" y="4292640"/>
            <a:ext cx="782640" cy="795240"/>
          </a:xfrm>
          <a:custGeom>
            <a:avLst/>
            <a:gdLst/>
            <a:ahLst/>
            <a:rect l="l" t="t" r="r" b="b"/>
            <a:pathLst>
              <a:path w="1366" h="1502">
                <a:moveTo>
                  <a:pt x="55" y="0"/>
                </a:moveTo>
                <a:lnTo>
                  <a:pt x="0" y="514"/>
                </a:lnTo>
                <a:lnTo>
                  <a:pt x="261" y="960"/>
                </a:lnTo>
                <a:lnTo>
                  <a:pt x="377" y="1090"/>
                </a:lnTo>
                <a:lnTo>
                  <a:pt x="661" y="1502"/>
                </a:lnTo>
                <a:lnTo>
                  <a:pt x="690" y="1498"/>
                </a:lnTo>
                <a:lnTo>
                  <a:pt x="1323" y="1129"/>
                </a:lnTo>
                <a:lnTo>
                  <a:pt x="1366" y="895"/>
                </a:lnTo>
                <a:lnTo>
                  <a:pt x="1084" y="518"/>
                </a:lnTo>
                <a:lnTo>
                  <a:pt x="811" y="568"/>
                </a:lnTo>
                <a:lnTo>
                  <a:pt x="359" y="165"/>
                </a:lnTo>
                <a:lnTo>
                  <a:pt x="365" y="6"/>
                </a:lnTo>
                <a:lnTo>
                  <a:pt x="55" y="0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93240" y="4292640"/>
            <a:ext cx="463320" cy="298440"/>
          </a:xfrm>
          <a:custGeom>
            <a:avLst/>
            <a:gdLst/>
            <a:ahLst/>
            <a:rect l="l" t="t" r="r" b="b"/>
            <a:pathLst>
              <a:path w="809" h="563">
                <a:moveTo>
                  <a:pt x="809" y="57"/>
                </a:moveTo>
                <a:lnTo>
                  <a:pt x="8" y="0"/>
                </a:lnTo>
                <a:lnTo>
                  <a:pt x="0" y="166"/>
                </a:lnTo>
                <a:lnTo>
                  <a:pt x="453" y="563"/>
                </a:lnTo>
                <a:lnTo>
                  <a:pt x="727" y="517"/>
                </a:lnTo>
                <a:lnTo>
                  <a:pt x="766" y="312"/>
                </a:lnTo>
                <a:lnTo>
                  <a:pt x="809" y="57"/>
                </a:lnTo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612280" y="4081320"/>
            <a:ext cx="649080" cy="650880"/>
          </a:xfrm>
          <a:custGeom>
            <a:avLst/>
            <a:gdLst/>
            <a:ahLst/>
            <a:rect l="l" t="t" r="r" b="b"/>
            <a:pathLst>
              <a:path w="1131" h="1231">
                <a:moveTo>
                  <a:pt x="0" y="670"/>
                </a:moveTo>
                <a:lnTo>
                  <a:pt x="203" y="727"/>
                </a:lnTo>
                <a:lnTo>
                  <a:pt x="71" y="1003"/>
                </a:lnTo>
                <a:lnTo>
                  <a:pt x="245" y="1231"/>
                </a:lnTo>
                <a:lnTo>
                  <a:pt x="499" y="1143"/>
                </a:lnTo>
                <a:lnTo>
                  <a:pt x="760" y="614"/>
                </a:lnTo>
                <a:lnTo>
                  <a:pt x="1119" y="630"/>
                </a:lnTo>
                <a:lnTo>
                  <a:pt x="1131" y="436"/>
                </a:lnTo>
                <a:lnTo>
                  <a:pt x="919" y="322"/>
                </a:lnTo>
                <a:lnTo>
                  <a:pt x="885" y="130"/>
                </a:lnTo>
                <a:lnTo>
                  <a:pt x="653" y="0"/>
                </a:lnTo>
                <a:lnTo>
                  <a:pt x="145" y="79"/>
                </a:lnTo>
                <a:lnTo>
                  <a:pt x="48" y="399"/>
                </a:lnTo>
                <a:lnTo>
                  <a:pt x="0" y="67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624880" y="4437000"/>
            <a:ext cx="135000" cy="176400"/>
          </a:xfrm>
          <a:custGeom>
            <a:avLst/>
            <a:gdLst/>
            <a:ahLst/>
            <a:rect l="l" t="t" r="r" b="b"/>
            <a:pathLst>
              <a:path w="237" h="334">
                <a:moveTo>
                  <a:pt x="237" y="59"/>
                </a:moveTo>
                <a:lnTo>
                  <a:pt x="32" y="0"/>
                </a:lnTo>
                <a:lnTo>
                  <a:pt x="0" y="187"/>
                </a:lnTo>
                <a:lnTo>
                  <a:pt x="107" y="334"/>
                </a:lnTo>
                <a:lnTo>
                  <a:pt x="237" y="59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152600">
            <a:off x="7832880" y="4005000"/>
            <a:ext cx="325440" cy="309600"/>
          </a:xfrm>
          <a:custGeom>
            <a:avLst/>
            <a:gdLst/>
            <a:ahLst/>
            <a:rect l="l" t="t" r="r" b="b"/>
            <a:pathLst>
              <a:path w="568" h="585">
                <a:moveTo>
                  <a:pt x="0" y="248"/>
                </a:moveTo>
                <a:lnTo>
                  <a:pt x="155" y="585"/>
                </a:lnTo>
                <a:lnTo>
                  <a:pt x="568" y="447"/>
                </a:lnTo>
                <a:lnTo>
                  <a:pt x="565" y="385"/>
                </a:lnTo>
                <a:lnTo>
                  <a:pt x="302" y="0"/>
                </a:lnTo>
                <a:lnTo>
                  <a:pt x="0" y="248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58120" y="3527280"/>
            <a:ext cx="496800" cy="401760"/>
          </a:xfrm>
          <a:custGeom>
            <a:avLst/>
            <a:gdLst/>
            <a:ahLst/>
            <a:rect l="l" t="t" r="r" b="b"/>
            <a:pathLst>
              <a:path w="867" h="759">
                <a:moveTo>
                  <a:pt x="207" y="682"/>
                </a:moveTo>
                <a:lnTo>
                  <a:pt x="566" y="759"/>
                </a:lnTo>
                <a:lnTo>
                  <a:pt x="867" y="515"/>
                </a:lnTo>
                <a:lnTo>
                  <a:pt x="787" y="262"/>
                </a:lnTo>
                <a:lnTo>
                  <a:pt x="492" y="0"/>
                </a:lnTo>
                <a:lnTo>
                  <a:pt x="70" y="129"/>
                </a:lnTo>
                <a:lnTo>
                  <a:pt x="0" y="404"/>
                </a:lnTo>
                <a:lnTo>
                  <a:pt x="163" y="600"/>
                </a:lnTo>
                <a:lnTo>
                  <a:pt x="207" y="68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69280" y="3317760"/>
            <a:ext cx="347400" cy="277920"/>
          </a:xfrm>
          <a:custGeom>
            <a:avLst/>
            <a:gdLst/>
            <a:ahLst/>
            <a:rect l="l" t="t" r="r" b="b"/>
            <a:pathLst>
              <a:path w="606" h="525">
                <a:moveTo>
                  <a:pt x="376" y="0"/>
                </a:moveTo>
                <a:lnTo>
                  <a:pt x="27" y="253"/>
                </a:lnTo>
                <a:lnTo>
                  <a:pt x="0" y="426"/>
                </a:lnTo>
                <a:lnTo>
                  <a:pt x="52" y="525"/>
                </a:lnTo>
                <a:lnTo>
                  <a:pt x="465" y="401"/>
                </a:lnTo>
                <a:lnTo>
                  <a:pt x="606" y="54"/>
                </a:lnTo>
                <a:lnTo>
                  <a:pt x="376" y="0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37480" y="3314880"/>
            <a:ext cx="434880" cy="355320"/>
          </a:xfrm>
          <a:custGeom>
            <a:avLst/>
            <a:gdLst/>
            <a:ahLst/>
            <a:rect l="l" t="t" r="r" b="b"/>
            <a:pathLst>
              <a:path w="759" h="674">
                <a:moveTo>
                  <a:pt x="0" y="408"/>
                </a:moveTo>
                <a:lnTo>
                  <a:pt x="310" y="674"/>
                </a:lnTo>
                <a:lnTo>
                  <a:pt x="755" y="484"/>
                </a:lnTo>
                <a:lnTo>
                  <a:pt x="759" y="313"/>
                </a:lnTo>
                <a:lnTo>
                  <a:pt x="512" y="0"/>
                </a:lnTo>
                <a:lnTo>
                  <a:pt x="135" y="58"/>
                </a:lnTo>
                <a:lnTo>
                  <a:pt x="0" y="40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13520" y="3571920"/>
            <a:ext cx="657360" cy="430200"/>
          </a:xfrm>
          <a:custGeom>
            <a:avLst/>
            <a:gdLst/>
            <a:ahLst/>
            <a:rect l="l" t="t" r="r" b="b"/>
            <a:pathLst>
              <a:path w="1144" h="813">
                <a:moveTo>
                  <a:pt x="447" y="0"/>
                </a:moveTo>
                <a:lnTo>
                  <a:pt x="0" y="192"/>
                </a:lnTo>
                <a:lnTo>
                  <a:pt x="73" y="439"/>
                </a:lnTo>
                <a:lnTo>
                  <a:pt x="336" y="813"/>
                </a:lnTo>
                <a:lnTo>
                  <a:pt x="1004" y="613"/>
                </a:lnTo>
                <a:lnTo>
                  <a:pt x="1144" y="245"/>
                </a:lnTo>
                <a:lnTo>
                  <a:pt x="447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70920" y="3438360"/>
            <a:ext cx="399960" cy="263520"/>
          </a:xfrm>
          <a:custGeom>
            <a:avLst/>
            <a:gdLst/>
            <a:ahLst/>
            <a:rect l="l" t="t" r="r" b="b"/>
            <a:pathLst>
              <a:path w="696" h="499">
                <a:moveTo>
                  <a:pt x="1" y="251"/>
                </a:moveTo>
                <a:lnTo>
                  <a:pt x="696" y="499"/>
                </a:lnTo>
                <a:lnTo>
                  <a:pt x="511" y="98"/>
                </a:lnTo>
                <a:lnTo>
                  <a:pt x="331" y="0"/>
                </a:lnTo>
                <a:lnTo>
                  <a:pt x="0" y="75"/>
                </a:lnTo>
                <a:lnTo>
                  <a:pt x="1" y="25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31240" y="3206880"/>
            <a:ext cx="330120" cy="271440"/>
          </a:xfrm>
          <a:custGeom>
            <a:avLst/>
            <a:gdLst/>
            <a:ahLst/>
            <a:rect l="l" t="t" r="r" b="b"/>
            <a:pathLst>
              <a:path w="574" h="514">
                <a:moveTo>
                  <a:pt x="1" y="58"/>
                </a:moveTo>
                <a:lnTo>
                  <a:pt x="0" y="206"/>
                </a:lnTo>
                <a:lnTo>
                  <a:pt x="246" y="514"/>
                </a:lnTo>
                <a:lnTo>
                  <a:pt x="574" y="437"/>
                </a:lnTo>
                <a:lnTo>
                  <a:pt x="474" y="0"/>
                </a:lnTo>
                <a:lnTo>
                  <a:pt x="1" y="5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31240" y="3062160"/>
            <a:ext cx="231840" cy="174600"/>
          </a:xfrm>
          <a:custGeom>
            <a:avLst/>
            <a:gdLst/>
            <a:ahLst/>
            <a:rect l="l" t="t" r="r" b="b"/>
            <a:pathLst>
              <a:path w="402" h="331">
                <a:moveTo>
                  <a:pt x="0" y="219"/>
                </a:moveTo>
                <a:lnTo>
                  <a:pt x="1" y="331"/>
                </a:lnTo>
                <a:lnTo>
                  <a:pt x="398" y="282"/>
                </a:lnTo>
                <a:lnTo>
                  <a:pt x="402" y="17"/>
                </a:lnTo>
                <a:lnTo>
                  <a:pt x="128" y="0"/>
                </a:lnTo>
                <a:lnTo>
                  <a:pt x="0" y="2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58040" y="3070080"/>
            <a:ext cx="152640" cy="139680"/>
          </a:xfrm>
          <a:custGeom>
            <a:avLst/>
            <a:gdLst/>
            <a:ahLst/>
            <a:rect l="l" t="t" r="r" b="b"/>
            <a:pathLst>
              <a:path w="263" h="264">
                <a:moveTo>
                  <a:pt x="7" y="0"/>
                </a:moveTo>
                <a:lnTo>
                  <a:pt x="0" y="264"/>
                </a:lnTo>
                <a:lnTo>
                  <a:pt x="82" y="254"/>
                </a:lnTo>
                <a:lnTo>
                  <a:pt x="263" y="203"/>
                </a:lnTo>
                <a:lnTo>
                  <a:pt x="259" y="52"/>
                </a:lnTo>
                <a:lnTo>
                  <a:pt x="7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85040" y="2924280"/>
            <a:ext cx="346320" cy="568080"/>
          </a:xfrm>
          <a:custGeom>
            <a:avLst/>
            <a:gdLst/>
            <a:ahLst/>
            <a:rect l="l" t="t" r="r" b="b"/>
            <a:pathLst>
              <a:path w="607" h="1073">
                <a:moveTo>
                  <a:pt x="124" y="0"/>
                </a:moveTo>
                <a:lnTo>
                  <a:pt x="0" y="281"/>
                </a:lnTo>
                <a:lnTo>
                  <a:pt x="214" y="331"/>
                </a:lnTo>
                <a:lnTo>
                  <a:pt x="215" y="480"/>
                </a:lnTo>
                <a:lnTo>
                  <a:pt x="30" y="534"/>
                </a:lnTo>
                <a:lnTo>
                  <a:pt x="134" y="970"/>
                </a:lnTo>
                <a:lnTo>
                  <a:pt x="317" y="1073"/>
                </a:lnTo>
                <a:lnTo>
                  <a:pt x="596" y="627"/>
                </a:lnTo>
                <a:lnTo>
                  <a:pt x="607" y="543"/>
                </a:lnTo>
                <a:lnTo>
                  <a:pt x="530" y="134"/>
                </a:lnTo>
                <a:lnTo>
                  <a:pt x="506" y="46"/>
                </a:lnTo>
                <a:lnTo>
                  <a:pt x="124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93200" y="2971800"/>
            <a:ext cx="423720" cy="244440"/>
          </a:xfrm>
          <a:custGeom>
            <a:avLst/>
            <a:gdLst/>
            <a:ahLst/>
            <a:rect l="l" t="t" r="r" b="b"/>
            <a:pathLst>
              <a:path w="740" h="463">
                <a:moveTo>
                  <a:pt x="0" y="50"/>
                </a:moveTo>
                <a:lnTo>
                  <a:pt x="76" y="463"/>
                </a:lnTo>
                <a:lnTo>
                  <a:pt x="676" y="304"/>
                </a:lnTo>
                <a:lnTo>
                  <a:pt x="740" y="301"/>
                </a:lnTo>
                <a:lnTo>
                  <a:pt x="738" y="113"/>
                </a:lnTo>
                <a:lnTo>
                  <a:pt x="605" y="91"/>
                </a:lnTo>
                <a:lnTo>
                  <a:pt x="439" y="52"/>
                </a:lnTo>
                <a:lnTo>
                  <a:pt x="269" y="0"/>
                </a:lnTo>
                <a:lnTo>
                  <a:pt x="253" y="3"/>
                </a:lnTo>
                <a:lnTo>
                  <a:pt x="0" y="5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64680" y="3251160"/>
            <a:ext cx="345960" cy="452520"/>
          </a:xfrm>
          <a:custGeom>
            <a:avLst/>
            <a:gdLst/>
            <a:ahLst/>
            <a:rect l="l" t="t" r="r" b="b"/>
            <a:pathLst>
              <a:path w="603" h="854">
                <a:moveTo>
                  <a:pt x="282" y="5"/>
                </a:moveTo>
                <a:lnTo>
                  <a:pt x="0" y="453"/>
                </a:lnTo>
                <a:lnTo>
                  <a:pt x="180" y="854"/>
                </a:lnTo>
                <a:lnTo>
                  <a:pt x="489" y="852"/>
                </a:lnTo>
                <a:lnTo>
                  <a:pt x="603" y="618"/>
                </a:lnTo>
                <a:lnTo>
                  <a:pt x="286" y="303"/>
                </a:lnTo>
                <a:lnTo>
                  <a:pt x="375" y="51"/>
                </a:lnTo>
                <a:lnTo>
                  <a:pt x="286" y="0"/>
                </a:lnTo>
                <a:lnTo>
                  <a:pt x="282" y="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626320" y="3132000"/>
            <a:ext cx="382680" cy="465120"/>
          </a:xfrm>
          <a:custGeom>
            <a:avLst/>
            <a:gdLst/>
            <a:ahLst/>
            <a:rect l="l" t="t" r="r" b="b"/>
            <a:pathLst>
              <a:path w="668" h="879">
                <a:moveTo>
                  <a:pt x="328" y="851"/>
                </a:moveTo>
                <a:lnTo>
                  <a:pt x="527" y="879"/>
                </a:lnTo>
                <a:lnTo>
                  <a:pt x="668" y="495"/>
                </a:lnTo>
                <a:lnTo>
                  <a:pt x="596" y="0"/>
                </a:lnTo>
                <a:lnTo>
                  <a:pt x="5" y="161"/>
                </a:lnTo>
                <a:lnTo>
                  <a:pt x="0" y="226"/>
                </a:lnTo>
                <a:lnTo>
                  <a:pt x="91" y="278"/>
                </a:lnTo>
                <a:lnTo>
                  <a:pt x="5" y="531"/>
                </a:lnTo>
                <a:lnTo>
                  <a:pt x="328" y="851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09000" y="2795760"/>
            <a:ext cx="333360" cy="334800"/>
          </a:xfrm>
          <a:custGeom>
            <a:avLst/>
            <a:gdLst/>
            <a:ahLst/>
            <a:rect l="l" t="t" r="r" b="b"/>
            <a:pathLst>
              <a:path w="578" h="631">
                <a:moveTo>
                  <a:pt x="2" y="631"/>
                </a:moveTo>
                <a:lnTo>
                  <a:pt x="578" y="613"/>
                </a:lnTo>
                <a:lnTo>
                  <a:pt x="398" y="0"/>
                </a:lnTo>
                <a:lnTo>
                  <a:pt x="139" y="2"/>
                </a:lnTo>
                <a:lnTo>
                  <a:pt x="40" y="446"/>
                </a:lnTo>
                <a:lnTo>
                  <a:pt x="0" y="441"/>
                </a:lnTo>
                <a:lnTo>
                  <a:pt x="2" y="63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967960" y="3121200"/>
            <a:ext cx="603000" cy="395280"/>
          </a:xfrm>
          <a:custGeom>
            <a:avLst/>
            <a:gdLst/>
            <a:ahLst/>
            <a:rect l="l" t="t" r="r" b="b"/>
            <a:pathLst>
              <a:path w="1050" h="748">
                <a:moveTo>
                  <a:pt x="0" y="18"/>
                </a:moveTo>
                <a:lnTo>
                  <a:pt x="72" y="517"/>
                </a:lnTo>
                <a:lnTo>
                  <a:pt x="351" y="567"/>
                </a:lnTo>
                <a:lnTo>
                  <a:pt x="433" y="748"/>
                </a:lnTo>
                <a:lnTo>
                  <a:pt x="474" y="520"/>
                </a:lnTo>
                <a:lnTo>
                  <a:pt x="1050" y="460"/>
                </a:lnTo>
                <a:lnTo>
                  <a:pt x="1029" y="376"/>
                </a:lnTo>
                <a:lnTo>
                  <a:pt x="1008" y="301"/>
                </a:lnTo>
                <a:lnTo>
                  <a:pt x="974" y="234"/>
                </a:lnTo>
                <a:lnTo>
                  <a:pt x="941" y="182"/>
                </a:lnTo>
                <a:lnTo>
                  <a:pt x="871" y="117"/>
                </a:lnTo>
                <a:lnTo>
                  <a:pt x="805" y="77"/>
                </a:lnTo>
                <a:lnTo>
                  <a:pt x="738" y="43"/>
                </a:lnTo>
                <a:lnTo>
                  <a:pt x="679" y="19"/>
                </a:lnTo>
                <a:lnTo>
                  <a:pt x="654" y="9"/>
                </a:lnTo>
                <a:lnTo>
                  <a:pt x="650" y="0"/>
                </a:lnTo>
                <a:lnTo>
                  <a:pt x="0" y="1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07200" y="3897360"/>
            <a:ext cx="588960" cy="393480"/>
          </a:xfrm>
          <a:custGeom>
            <a:avLst/>
            <a:gdLst/>
            <a:ahLst/>
            <a:rect l="l" t="t" r="r" b="b"/>
            <a:pathLst>
              <a:path w="1029" h="743">
                <a:moveTo>
                  <a:pt x="126" y="687"/>
                </a:moveTo>
                <a:lnTo>
                  <a:pt x="930" y="743"/>
                </a:lnTo>
                <a:lnTo>
                  <a:pt x="1029" y="424"/>
                </a:lnTo>
                <a:lnTo>
                  <a:pt x="668" y="0"/>
                </a:lnTo>
                <a:lnTo>
                  <a:pt x="0" y="198"/>
                </a:lnTo>
                <a:lnTo>
                  <a:pt x="3" y="270"/>
                </a:lnTo>
                <a:lnTo>
                  <a:pt x="126" y="687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88440" y="3581280"/>
            <a:ext cx="528480" cy="540000"/>
          </a:xfrm>
          <a:custGeom>
            <a:avLst/>
            <a:gdLst/>
            <a:ahLst/>
            <a:rect l="l" t="t" r="r" b="b"/>
            <a:pathLst>
              <a:path w="921" h="1020">
                <a:moveTo>
                  <a:pt x="448" y="230"/>
                </a:moveTo>
                <a:lnTo>
                  <a:pt x="139" y="228"/>
                </a:lnTo>
                <a:lnTo>
                  <a:pt x="0" y="593"/>
                </a:lnTo>
                <a:lnTo>
                  <a:pt x="359" y="1020"/>
                </a:lnTo>
                <a:lnTo>
                  <a:pt x="871" y="943"/>
                </a:lnTo>
                <a:lnTo>
                  <a:pt x="921" y="413"/>
                </a:lnTo>
                <a:lnTo>
                  <a:pt x="754" y="327"/>
                </a:lnTo>
                <a:lnTo>
                  <a:pt x="763" y="29"/>
                </a:lnTo>
                <a:lnTo>
                  <a:pt x="561" y="0"/>
                </a:lnTo>
                <a:lnTo>
                  <a:pt x="448" y="23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20080" y="3394080"/>
            <a:ext cx="309600" cy="407880"/>
          </a:xfrm>
          <a:custGeom>
            <a:avLst/>
            <a:gdLst/>
            <a:ahLst/>
            <a:rect l="l" t="t" r="r" b="b"/>
            <a:pathLst>
              <a:path w="540" h="770">
                <a:moveTo>
                  <a:pt x="10" y="383"/>
                </a:moveTo>
                <a:lnTo>
                  <a:pt x="0" y="681"/>
                </a:lnTo>
                <a:lnTo>
                  <a:pt x="171" y="770"/>
                </a:lnTo>
                <a:lnTo>
                  <a:pt x="540" y="600"/>
                </a:lnTo>
                <a:lnTo>
                  <a:pt x="518" y="230"/>
                </a:lnTo>
                <a:lnTo>
                  <a:pt x="434" y="52"/>
                </a:lnTo>
                <a:lnTo>
                  <a:pt x="154" y="0"/>
                </a:lnTo>
                <a:lnTo>
                  <a:pt x="10" y="38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97840" y="3711600"/>
            <a:ext cx="466920" cy="291960"/>
          </a:xfrm>
          <a:custGeom>
            <a:avLst/>
            <a:gdLst/>
            <a:ahLst/>
            <a:rect l="l" t="t" r="r" b="b"/>
            <a:pathLst>
              <a:path w="815" h="553">
                <a:moveTo>
                  <a:pt x="34" y="173"/>
                </a:moveTo>
                <a:lnTo>
                  <a:pt x="0" y="553"/>
                </a:lnTo>
                <a:lnTo>
                  <a:pt x="783" y="363"/>
                </a:lnTo>
                <a:lnTo>
                  <a:pt x="815" y="195"/>
                </a:lnTo>
                <a:lnTo>
                  <a:pt x="407" y="0"/>
                </a:lnTo>
                <a:lnTo>
                  <a:pt x="34" y="17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989920" y="3903840"/>
            <a:ext cx="455760" cy="245880"/>
          </a:xfrm>
          <a:custGeom>
            <a:avLst/>
            <a:gdLst/>
            <a:ahLst/>
            <a:rect l="l" t="t" r="r" b="b"/>
            <a:pathLst>
              <a:path w="797" h="465">
                <a:moveTo>
                  <a:pt x="0" y="337"/>
                </a:moveTo>
                <a:lnTo>
                  <a:pt x="230" y="465"/>
                </a:lnTo>
                <a:lnTo>
                  <a:pt x="747" y="344"/>
                </a:lnTo>
                <a:lnTo>
                  <a:pt x="797" y="0"/>
                </a:lnTo>
                <a:lnTo>
                  <a:pt x="14" y="188"/>
                </a:lnTo>
                <a:lnTo>
                  <a:pt x="0" y="33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217080" y="3363840"/>
            <a:ext cx="447480" cy="538200"/>
          </a:xfrm>
          <a:custGeom>
            <a:avLst/>
            <a:gdLst/>
            <a:ahLst/>
            <a:rect l="l" t="t" r="r" b="b"/>
            <a:pathLst>
              <a:path w="782" h="1018">
                <a:moveTo>
                  <a:pt x="39" y="65"/>
                </a:moveTo>
                <a:lnTo>
                  <a:pt x="0" y="283"/>
                </a:lnTo>
                <a:lnTo>
                  <a:pt x="23" y="657"/>
                </a:lnTo>
                <a:lnTo>
                  <a:pt x="432" y="853"/>
                </a:lnTo>
                <a:lnTo>
                  <a:pt x="401" y="1018"/>
                </a:lnTo>
                <a:lnTo>
                  <a:pt x="782" y="887"/>
                </a:lnTo>
                <a:lnTo>
                  <a:pt x="708" y="603"/>
                </a:lnTo>
                <a:lnTo>
                  <a:pt x="472" y="604"/>
                </a:lnTo>
                <a:lnTo>
                  <a:pt x="472" y="450"/>
                </a:lnTo>
                <a:lnTo>
                  <a:pt x="566" y="366"/>
                </a:lnTo>
                <a:lnTo>
                  <a:pt x="633" y="288"/>
                </a:lnTo>
                <a:lnTo>
                  <a:pt x="680" y="209"/>
                </a:lnTo>
                <a:lnTo>
                  <a:pt x="721" y="119"/>
                </a:lnTo>
                <a:lnTo>
                  <a:pt x="758" y="29"/>
                </a:lnTo>
                <a:lnTo>
                  <a:pt x="623" y="0"/>
                </a:lnTo>
                <a:lnTo>
                  <a:pt x="39" y="6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91800" y="4579560"/>
            <a:ext cx="48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Gon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5240" y="4292640"/>
            <a:ext cx="576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Villiers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le-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84520" y="2276640"/>
            <a:ext cx="11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gny-en-Vex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94000" y="313560"/>
            <a:ext cx="5557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arte des Contrats Locaux de Santé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11840" y="2805120"/>
            <a:ext cx="387360" cy="442800"/>
          </a:xfrm>
          <a:custGeom>
            <a:avLst/>
            <a:gdLst/>
            <a:ahLst/>
            <a:rect l="l" t="t" r="r" b="b"/>
            <a:pathLst>
              <a:path w="225" h="279">
                <a:moveTo>
                  <a:pt x="65" y="0"/>
                </a:moveTo>
                <a:lnTo>
                  <a:pt x="188" y="33"/>
                </a:lnTo>
                <a:lnTo>
                  <a:pt x="225" y="132"/>
                </a:lnTo>
                <a:lnTo>
                  <a:pt x="130" y="279"/>
                </a:lnTo>
                <a:lnTo>
                  <a:pt x="44" y="245"/>
                </a:lnTo>
                <a:lnTo>
                  <a:pt x="0" y="68"/>
                </a:lnTo>
                <a:lnTo>
                  <a:pt x="65" y="0"/>
                </a:lnTo>
                <a:close/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74840" y="2495520"/>
            <a:ext cx="516240" cy="352440"/>
          </a:xfrm>
          <a:custGeom>
            <a:avLst/>
            <a:gdLst/>
            <a:ahLst/>
            <a:rect l="l" t="t" r="r" b="b"/>
            <a:pathLst>
              <a:path w="300" h="222">
                <a:moveTo>
                  <a:pt x="0" y="150"/>
                </a:moveTo>
                <a:lnTo>
                  <a:pt x="18" y="84"/>
                </a:lnTo>
                <a:lnTo>
                  <a:pt x="120" y="90"/>
                </a:lnTo>
                <a:lnTo>
                  <a:pt x="186" y="0"/>
                </a:lnTo>
                <a:lnTo>
                  <a:pt x="300" y="96"/>
                </a:lnTo>
                <a:lnTo>
                  <a:pt x="252" y="180"/>
                </a:lnTo>
                <a:lnTo>
                  <a:pt x="90" y="222"/>
                </a:lnTo>
                <a:lnTo>
                  <a:pt x="6" y="1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2790720"/>
            <a:ext cx="217440" cy="200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60" y="6"/>
                </a:moveTo>
                <a:lnTo>
                  <a:pt x="72" y="6"/>
                </a:lnTo>
                <a:lnTo>
                  <a:pt x="126" y="42"/>
                </a:lnTo>
                <a:lnTo>
                  <a:pt x="96" y="126"/>
                </a:lnTo>
                <a:lnTo>
                  <a:pt x="0" y="78"/>
                </a:lnTo>
                <a:lnTo>
                  <a:pt x="6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9720" y="1235160"/>
            <a:ext cx="795240" cy="736560"/>
          </a:xfrm>
          <a:custGeom>
            <a:avLst/>
            <a:gdLst/>
            <a:ahLst/>
            <a:rect l="l" t="t" r="r" b="b"/>
            <a:pathLst>
              <a:path w="462" h="464">
                <a:moveTo>
                  <a:pt x="102" y="432"/>
                </a:moveTo>
                <a:lnTo>
                  <a:pt x="122" y="268"/>
                </a:lnTo>
                <a:lnTo>
                  <a:pt x="294" y="264"/>
                </a:lnTo>
                <a:lnTo>
                  <a:pt x="306" y="228"/>
                </a:lnTo>
                <a:lnTo>
                  <a:pt x="408" y="222"/>
                </a:lnTo>
                <a:lnTo>
                  <a:pt x="462" y="72"/>
                </a:lnTo>
                <a:lnTo>
                  <a:pt x="204" y="0"/>
                </a:lnTo>
                <a:lnTo>
                  <a:pt x="216" y="108"/>
                </a:lnTo>
                <a:lnTo>
                  <a:pt x="48" y="204"/>
                </a:lnTo>
                <a:lnTo>
                  <a:pt x="20" y="362"/>
                </a:lnTo>
                <a:lnTo>
                  <a:pt x="0" y="464"/>
                </a:lnTo>
                <a:lnTo>
                  <a:pt x="102" y="432"/>
                </a:lnTo>
                <a:close/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4149360"/>
            <a:ext cx="546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 u="sng">
                <a:solidFill>
                  <a:srgbClr val="000000"/>
                </a:solidFill>
                <a:uFillTx/>
                <a:latin typeface="Arial"/>
              </a:rPr>
              <a:t>LEGEN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5800" y="4437000"/>
            <a:ext cx="1584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DH2&lt; 0,50 - pas de C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8880" y="5084640"/>
            <a:ext cx="251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DH 2 &gt; à 0,5 et en CUCS en C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2880" y="5084640"/>
            <a:ext cx="190800" cy="147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63160" y="5334120"/>
            <a:ext cx="44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Bez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61240" y="501336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rgenteu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529240" y="3429000"/>
            <a:ext cx="1936440" cy="1582560"/>
            <a:chOff x="5529240" y="3429000"/>
            <a:chExt cx="1936440" cy="1582560"/>
          </a:xfrm>
        </p:grpSpPr>
        <p:sp>
          <p:nvSpPr>
            <p:cNvPr id="214" name=""/>
            <p:cNvSpPr/>
            <p:nvPr/>
          </p:nvSpPr>
          <p:spPr>
            <a:xfrm>
              <a:off x="6605640" y="4336920"/>
              <a:ext cx="171720" cy="142920"/>
            </a:xfrm>
            <a:custGeom>
              <a:avLst/>
              <a:gdLst/>
              <a:ahLst/>
              <a:rect l="l" t="t" r="r" b="b"/>
              <a:pathLst>
                <a:path w="300" h="268">
                  <a:moveTo>
                    <a:pt x="68" y="10"/>
                  </a:moveTo>
                  <a:lnTo>
                    <a:pt x="0" y="168"/>
                  </a:lnTo>
                  <a:lnTo>
                    <a:pt x="168" y="268"/>
                  </a:lnTo>
                  <a:lnTo>
                    <a:pt x="300" y="180"/>
                  </a:lnTo>
                  <a:lnTo>
                    <a:pt x="255" y="0"/>
                  </a:lnTo>
                  <a:lnTo>
                    <a:pt x="68" y="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59480" y="4344840"/>
              <a:ext cx="247680" cy="406440"/>
            </a:xfrm>
            <a:custGeom>
              <a:avLst/>
              <a:gdLst/>
              <a:ahLst/>
              <a:rect l="l" t="t" r="r" b="b"/>
              <a:pathLst>
                <a:path w="432" h="770">
                  <a:moveTo>
                    <a:pt x="432" y="678"/>
                  </a:moveTo>
                  <a:lnTo>
                    <a:pt x="374" y="402"/>
                  </a:lnTo>
                  <a:lnTo>
                    <a:pt x="390" y="303"/>
                  </a:lnTo>
                  <a:lnTo>
                    <a:pt x="422" y="254"/>
                  </a:lnTo>
                  <a:lnTo>
                    <a:pt x="255" y="155"/>
                  </a:lnTo>
                  <a:lnTo>
                    <a:pt x="322" y="0"/>
                  </a:lnTo>
                  <a:lnTo>
                    <a:pt x="149" y="13"/>
                  </a:lnTo>
                  <a:lnTo>
                    <a:pt x="0" y="152"/>
                  </a:lnTo>
                  <a:lnTo>
                    <a:pt x="35" y="747"/>
                  </a:lnTo>
                  <a:lnTo>
                    <a:pt x="104" y="770"/>
                  </a:lnTo>
                  <a:lnTo>
                    <a:pt x="372" y="757"/>
                  </a:lnTo>
                  <a:lnTo>
                    <a:pt x="432" y="678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62320" y="4236840"/>
              <a:ext cx="348840" cy="263520"/>
            </a:xfrm>
            <a:custGeom>
              <a:avLst/>
              <a:gdLst/>
              <a:ahLst/>
              <a:rect l="l" t="t" r="r" b="b"/>
              <a:pathLst>
                <a:path w="609" h="498">
                  <a:moveTo>
                    <a:pt x="609" y="311"/>
                  </a:moveTo>
                  <a:lnTo>
                    <a:pt x="595" y="220"/>
                  </a:lnTo>
                  <a:lnTo>
                    <a:pt x="242" y="0"/>
                  </a:lnTo>
                  <a:lnTo>
                    <a:pt x="0" y="338"/>
                  </a:lnTo>
                  <a:lnTo>
                    <a:pt x="517" y="498"/>
                  </a:lnTo>
                  <a:lnTo>
                    <a:pt x="609" y="311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17800" y="4744800"/>
              <a:ext cx="263160" cy="254160"/>
            </a:xfrm>
            <a:custGeom>
              <a:avLst/>
              <a:gdLst/>
              <a:ahLst/>
              <a:rect l="l" t="t" r="r" b="b"/>
              <a:pathLst>
                <a:path w="459" h="480">
                  <a:moveTo>
                    <a:pt x="267" y="0"/>
                  </a:moveTo>
                  <a:lnTo>
                    <a:pt x="0" y="10"/>
                  </a:lnTo>
                  <a:lnTo>
                    <a:pt x="35" y="381"/>
                  </a:lnTo>
                  <a:lnTo>
                    <a:pt x="378" y="480"/>
                  </a:lnTo>
                  <a:lnTo>
                    <a:pt x="395" y="437"/>
                  </a:lnTo>
                  <a:lnTo>
                    <a:pt x="412" y="405"/>
                  </a:lnTo>
                  <a:lnTo>
                    <a:pt x="459" y="336"/>
                  </a:lnTo>
                  <a:lnTo>
                    <a:pt x="26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78920" y="4294080"/>
              <a:ext cx="383400" cy="379440"/>
            </a:xfrm>
            <a:custGeom>
              <a:avLst/>
              <a:gdLst/>
              <a:ahLst/>
              <a:rect l="l" t="t" r="r" b="b"/>
              <a:pathLst>
                <a:path w="669" h="718">
                  <a:moveTo>
                    <a:pt x="669" y="234"/>
                  </a:moveTo>
                  <a:lnTo>
                    <a:pt x="450" y="20"/>
                  </a:lnTo>
                  <a:lnTo>
                    <a:pt x="292" y="0"/>
                  </a:lnTo>
                  <a:lnTo>
                    <a:pt x="183" y="184"/>
                  </a:lnTo>
                  <a:lnTo>
                    <a:pt x="0" y="543"/>
                  </a:lnTo>
                  <a:lnTo>
                    <a:pt x="160" y="718"/>
                  </a:lnTo>
                  <a:lnTo>
                    <a:pt x="501" y="559"/>
                  </a:lnTo>
                  <a:lnTo>
                    <a:pt x="669" y="234"/>
                  </a:lnTo>
                </a:path>
              </a:pathLst>
            </a:custGeom>
            <a:solidFill>
              <a:srgbClr val="33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68480" y="4051080"/>
              <a:ext cx="309600" cy="276480"/>
            </a:xfrm>
            <a:custGeom>
              <a:avLst/>
              <a:gdLst/>
              <a:ahLst/>
              <a:rect l="l" t="t" r="r" b="b"/>
              <a:pathLst>
                <a:path w="541" h="522">
                  <a:moveTo>
                    <a:pt x="541" y="209"/>
                  </a:moveTo>
                  <a:lnTo>
                    <a:pt x="127" y="0"/>
                  </a:lnTo>
                  <a:lnTo>
                    <a:pt x="0" y="232"/>
                  </a:lnTo>
                  <a:lnTo>
                    <a:pt x="269" y="431"/>
                  </a:lnTo>
                  <a:lnTo>
                    <a:pt x="271" y="522"/>
                  </a:lnTo>
                  <a:lnTo>
                    <a:pt x="308" y="459"/>
                  </a:lnTo>
                  <a:lnTo>
                    <a:pt x="472" y="478"/>
                  </a:lnTo>
                  <a:lnTo>
                    <a:pt x="541" y="20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29240" y="3768840"/>
              <a:ext cx="548280" cy="280800"/>
            </a:xfrm>
            <a:custGeom>
              <a:avLst/>
              <a:gdLst/>
              <a:ahLst/>
              <a:rect l="l" t="t" r="r" b="b"/>
              <a:pathLst>
                <a:path w="956" h="531">
                  <a:moveTo>
                    <a:pt x="956" y="0"/>
                  </a:moveTo>
                  <a:lnTo>
                    <a:pt x="217" y="127"/>
                  </a:lnTo>
                  <a:lnTo>
                    <a:pt x="0" y="328"/>
                  </a:lnTo>
                  <a:lnTo>
                    <a:pt x="194" y="531"/>
                  </a:lnTo>
                  <a:lnTo>
                    <a:pt x="943" y="350"/>
                  </a:lnTo>
                  <a:lnTo>
                    <a:pt x="95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42640" y="3686040"/>
              <a:ext cx="653040" cy="731880"/>
            </a:xfrm>
            <a:custGeom>
              <a:avLst/>
              <a:gdLst/>
              <a:ahLst/>
              <a:rect l="l" t="t" r="r" b="b"/>
              <a:pathLst>
                <a:path w="1140" h="1382">
                  <a:moveTo>
                    <a:pt x="1140" y="272"/>
                  </a:moveTo>
                  <a:lnTo>
                    <a:pt x="989" y="0"/>
                  </a:lnTo>
                  <a:lnTo>
                    <a:pt x="799" y="0"/>
                  </a:lnTo>
                  <a:lnTo>
                    <a:pt x="763" y="152"/>
                  </a:lnTo>
                  <a:lnTo>
                    <a:pt x="743" y="504"/>
                  </a:lnTo>
                  <a:lnTo>
                    <a:pt x="0" y="688"/>
                  </a:lnTo>
                  <a:lnTo>
                    <a:pt x="416" y="899"/>
                  </a:lnTo>
                  <a:lnTo>
                    <a:pt x="344" y="1170"/>
                  </a:lnTo>
                  <a:lnTo>
                    <a:pt x="559" y="1382"/>
                  </a:lnTo>
                  <a:lnTo>
                    <a:pt x="804" y="1039"/>
                  </a:lnTo>
                  <a:lnTo>
                    <a:pt x="1140" y="2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66200" y="4416480"/>
              <a:ext cx="391680" cy="395280"/>
            </a:xfrm>
            <a:custGeom>
              <a:avLst/>
              <a:gdLst/>
              <a:ahLst/>
              <a:rect l="l" t="t" r="r" b="b"/>
              <a:pathLst>
                <a:path w="685" h="747">
                  <a:moveTo>
                    <a:pt x="685" y="159"/>
                  </a:moveTo>
                  <a:lnTo>
                    <a:pt x="170" y="0"/>
                  </a:lnTo>
                  <a:lnTo>
                    <a:pt x="0" y="331"/>
                  </a:lnTo>
                  <a:lnTo>
                    <a:pt x="357" y="747"/>
                  </a:lnTo>
                  <a:lnTo>
                    <a:pt x="639" y="465"/>
                  </a:lnTo>
                  <a:lnTo>
                    <a:pt x="685" y="15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32320" y="4403520"/>
              <a:ext cx="247680" cy="335160"/>
            </a:xfrm>
            <a:custGeom>
              <a:avLst/>
              <a:gdLst/>
              <a:ahLst/>
              <a:rect l="l" t="t" r="r" b="b"/>
              <a:pathLst>
                <a:path w="431" h="635">
                  <a:moveTo>
                    <a:pt x="398" y="41"/>
                  </a:moveTo>
                  <a:lnTo>
                    <a:pt x="137" y="0"/>
                  </a:lnTo>
                  <a:lnTo>
                    <a:pt x="44" y="189"/>
                  </a:lnTo>
                  <a:lnTo>
                    <a:pt x="0" y="482"/>
                  </a:lnTo>
                  <a:lnTo>
                    <a:pt x="431" y="635"/>
                  </a:lnTo>
                  <a:lnTo>
                    <a:pt x="398" y="41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74760" y="4397400"/>
              <a:ext cx="273240" cy="317520"/>
            </a:xfrm>
            <a:custGeom>
              <a:avLst/>
              <a:gdLst/>
              <a:ahLst/>
              <a:rect l="l" t="t" r="r" b="b"/>
              <a:pathLst>
                <a:path w="479" h="601">
                  <a:moveTo>
                    <a:pt x="479" y="61"/>
                  </a:moveTo>
                  <a:lnTo>
                    <a:pt x="399" y="0"/>
                  </a:lnTo>
                  <a:lnTo>
                    <a:pt x="227" y="41"/>
                  </a:lnTo>
                  <a:lnTo>
                    <a:pt x="47" y="157"/>
                  </a:lnTo>
                  <a:lnTo>
                    <a:pt x="17" y="212"/>
                  </a:lnTo>
                  <a:lnTo>
                    <a:pt x="0" y="303"/>
                  </a:lnTo>
                  <a:lnTo>
                    <a:pt x="60" y="581"/>
                  </a:lnTo>
                  <a:lnTo>
                    <a:pt x="290" y="601"/>
                  </a:lnTo>
                  <a:lnTo>
                    <a:pt x="479" y="6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72960" y="4703760"/>
              <a:ext cx="239040" cy="247680"/>
            </a:xfrm>
            <a:custGeom>
              <a:avLst/>
              <a:gdLst/>
              <a:ahLst/>
              <a:rect l="l" t="t" r="r" b="b"/>
              <a:pathLst>
                <a:path w="419" h="467">
                  <a:moveTo>
                    <a:pt x="62" y="0"/>
                  </a:moveTo>
                  <a:lnTo>
                    <a:pt x="0" y="76"/>
                  </a:lnTo>
                  <a:lnTo>
                    <a:pt x="193" y="415"/>
                  </a:lnTo>
                  <a:lnTo>
                    <a:pt x="299" y="432"/>
                  </a:lnTo>
                  <a:lnTo>
                    <a:pt x="419" y="467"/>
                  </a:lnTo>
                  <a:lnTo>
                    <a:pt x="401" y="134"/>
                  </a:lnTo>
                  <a:lnTo>
                    <a:pt x="292" y="20"/>
                  </a:lnTo>
                  <a:lnTo>
                    <a:pt x="6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01920" y="4637160"/>
              <a:ext cx="283320" cy="371520"/>
            </a:xfrm>
            <a:custGeom>
              <a:avLst/>
              <a:gdLst/>
              <a:ahLst/>
              <a:rect l="l" t="t" r="r" b="b"/>
              <a:pathLst>
                <a:path w="493" h="704">
                  <a:moveTo>
                    <a:pt x="183" y="61"/>
                  </a:moveTo>
                  <a:lnTo>
                    <a:pt x="0" y="265"/>
                  </a:lnTo>
                  <a:lnTo>
                    <a:pt x="18" y="598"/>
                  </a:lnTo>
                  <a:lnTo>
                    <a:pt x="173" y="661"/>
                  </a:lnTo>
                  <a:lnTo>
                    <a:pt x="217" y="676"/>
                  </a:lnTo>
                  <a:lnTo>
                    <a:pt x="278" y="695"/>
                  </a:lnTo>
                  <a:lnTo>
                    <a:pt x="324" y="704"/>
                  </a:lnTo>
                  <a:lnTo>
                    <a:pt x="493" y="83"/>
                  </a:lnTo>
                  <a:lnTo>
                    <a:pt x="425" y="0"/>
                  </a:lnTo>
                  <a:lnTo>
                    <a:pt x="183" y="6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39640" y="4271760"/>
              <a:ext cx="352440" cy="503280"/>
            </a:xfrm>
            <a:custGeom>
              <a:avLst/>
              <a:gdLst/>
              <a:ahLst/>
              <a:rect l="l" t="t" r="r" b="b"/>
              <a:pathLst>
                <a:path w="615" h="951">
                  <a:moveTo>
                    <a:pt x="187" y="296"/>
                  </a:moveTo>
                  <a:lnTo>
                    <a:pt x="0" y="835"/>
                  </a:lnTo>
                  <a:lnTo>
                    <a:pt x="107" y="951"/>
                  </a:lnTo>
                  <a:lnTo>
                    <a:pt x="292" y="751"/>
                  </a:lnTo>
                  <a:lnTo>
                    <a:pt x="541" y="684"/>
                  </a:lnTo>
                  <a:lnTo>
                    <a:pt x="615" y="469"/>
                  </a:lnTo>
                  <a:lnTo>
                    <a:pt x="425" y="32"/>
                  </a:lnTo>
                  <a:lnTo>
                    <a:pt x="232" y="0"/>
                  </a:lnTo>
                  <a:lnTo>
                    <a:pt x="113" y="238"/>
                  </a:lnTo>
                  <a:lnTo>
                    <a:pt x="187" y="29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3600" y="4125960"/>
              <a:ext cx="220320" cy="306360"/>
            </a:xfrm>
            <a:custGeom>
              <a:avLst/>
              <a:gdLst/>
              <a:ahLst/>
              <a:rect l="l" t="t" r="r" b="b"/>
              <a:pathLst>
                <a:path w="382" h="581">
                  <a:moveTo>
                    <a:pt x="285" y="100"/>
                  </a:moveTo>
                  <a:lnTo>
                    <a:pt x="128" y="0"/>
                  </a:lnTo>
                  <a:lnTo>
                    <a:pt x="0" y="399"/>
                  </a:lnTo>
                  <a:lnTo>
                    <a:pt x="43" y="581"/>
                  </a:lnTo>
                  <a:lnTo>
                    <a:pt x="84" y="552"/>
                  </a:lnTo>
                  <a:lnTo>
                    <a:pt x="263" y="510"/>
                  </a:lnTo>
                  <a:lnTo>
                    <a:pt x="382" y="282"/>
                  </a:lnTo>
                  <a:lnTo>
                    <a:pt x="285" y="1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87320" y="4680000"/>
              <a:ext cx="348840" cy="331560"/>
            </a:xfrm>
            <a:custGeom>
              <a:avLst/>
              <a:gdLst/>
              <a:ahLst/>
              <a:rect l="l" t="t" r="r" b="b"/>
              <a:pathLst>
                <a:path w="607" h="627">
                  <a:moveTo>
                    <a:pt x="167" y="0"/>
                  </a:moveTo>
                  <a:lnTo>
                    <a:pt x="0" y="623"/>
                  </a:lnTo>
                  <a:lnTo>
                    <a:pt x="64" y="627"/>
                  </a:lnTo>
                  <a:lnTo>
                    <a:pt x="120" y="622"/>
                  </a:lnTo>
                  <a:lnTo>
                    <a:pt x="253" y="381"/>
                  </a:lnTo>
                  <a:lnTo>
                    <a:pt x="389" y="387"/>
                  </a:lnTo>
                  <a:lnTo>
                    <a:pt x="440" y="378"/>
                  </a:lnTo>
                  <a:lnTo>
                    <a:pt x="485" y="354"/>
                  </a:lnTo>
                  <a:lnTo>
                    <a:pt x="567" y="292"/>
                  </a:lnTo>
                  <a:lnTo>
                    <a:pt x="604" y="255"/>
                  </a:lnTo>
                  <a:lnTo>
                    <a:pt x="607" y="9"/>
                  </a:lnTo>
                  <a:lnTo>
                    <a:pt x="167" y="0"/>
                  </a:lnTo>
                </a:path>
              </a:pathLst>
            </a:custGeom>
            <a:solidFill>
              <a:srgbClr val="33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47440" y="4522680"/>
              <a:ext cx="294120" cy="162000"/>
            </a:xfrm>
            <a:custGeom>
              <a:avLst/>
              <a:gdLst/>
              <a:ahLst/>
              <a:rect l="l" t="t" r="r" b="b"/>
              <a:pathLst>
                <a:path w="513" h="306">
                  <a:moveTo>
                    <a:pt x="0" y="222"/>
                  </a:moveTo>
                  <a:lnTo>
                    <a:pt x="64" y="298"/>
                  </a:lnTo>
                  <a:lnTo>
                    <a:pt x="500" y="306"/>
                  </a:lnTo>
                  <a:lnTo>
                    <a:pt x="513" y="113"/>
                  </a:lnTo>
                  <a:lnTo>
                    <a:pt x="80" y="0"/>
                  </a:lnTo>
                  <a:lnTo>
                    <a:pt x="0" y="22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13480" y="3566880"/>
              <a:ext cx="488160" cy="268560"/>
            </a:xfrm>
            <a:custGeom>
              <a:avLst/>
              <a:gdLst/>
              <a:ahLst/>
              <a:rect l="l" t="t" r="r" b="b"/>
              <a:pathLst>
                <a:path w="852" h="506">
                  <a:moveTo>
                    <a:pt x="447" y="0"/>
                  </a:moveTo>
                  <a:lnTo>
                    <a:pt x="0" y="429"/>
                  </a:lnTo>
                  <a:lnTo>
                    <a:pt x="68" y="506"/>
                  </a:lnTo>
                  <a:lnTo>
                    <a:pt x="813" y="381"/>
                  </a:lnTo>
                  <a:lnTo>
                    <a:pt x="852" y="225"/>
                  </a:lnTo>
                  <a:lnTo>
                    <a:pt x="44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08560" y="3429000"/>
              <a:ext cx="197640" cy="403200"/>
            </a:xfrm>
            <a:custGeom>
              <a:avLst/>
              <a:gdLst/>
              <a:ahLst/>
              <a:rect l="l" t="t" r="r" b="b"/>
              <a:pathLst>
                <a:path w="346" h="762">
                  <a:moveTo>
                    <a:pt x="200" y="0"/>
                  </a:moveTo>
                  <a:lnTo>
                    <a:pt x="0" y="487"/>
                  </a:lnTo>
                  <a:lnTo>
                    <a:pt x="155" y="762"/>
                  </a:lnTo>
                  <a:lnTo>
                    <a:pt x="346" y="762"/>
                  </a:lnTo>
                  <a:lnTo>
                    <a:pt x="343" y="41"/>
                  </a:lnTo>
                  <a:lnTo>
                    <a:pt x="20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03800" y="3832200"/>
              <a:ext cx="304200" cy="522360"/>
            </a:xfrm>
            <a:custGeom>
              <a:avLst/>
              <a:gdLst/>
              <a:ahLst/>
              <a:rect l="l" t="t" r="r" b="b"/>
              <a:pathLst>
                <a:path w="532" h="986">
                  <a:moveTo>
                    <a:pt x="532" y="76"/>
                  </a:moveTo>
                  <a:lnTo>
                    <a:pt x="530" y="1"/>
                  </a:lnTo>
                  <a:lnTo>
                    <a:pt x="337" y="0"/>
                  </a:lnTo>
                  <a:lnTo>
                    <a:pt x="0" y="766"/>
                  </a:lnTo>
                  <a:lnTo>
                    <a:pt x="352" y="986"/>
                  </a:lnTo>
                  <a:lnTo>
                    <a:pt x="532" y="76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05040" y="3870360"/>
              <a:ext cx="443520" cy="554040"/>
            </a:xfrm>
            <a:custGeom>
              <a:avLst/>
              <a:gdLst/>
              <a:ahLst/>
              <a:rect l="l" t="t" r="r" b="b"/>
              <a:pathLst>
                <a:path w="774" h="1048">
                  <a:moveTo>
                    <a:pt x="774" y="364"/>
                  </a:moveTo>
                  <a:lnTo>
                    <a:pt x="733" y="214"/>
                  </a:lnTo>
                  <a:lnTo>
                    <a:pt x="451" y="28"/>
                  </a:lnTo>
                  <a:lnTo>
                    <a:pt x="180" y="0"/>
                  </a:lnTo>
                  <a:lnTo>
                    <a:pt x="0" y="913"/>
                  </a:lnTo>
                  <a:lnTo>
                    <a:pt x="13" y="1007"/>
                  </a:lnTo>
                  <a:lnTo>
                    <a:pt x="268" y="1048"/>
                  </a:lnTo>
                  <a:lnTo>
                    <a:pt x="425" y="907"/>
                  </a:lnTo>
                  <a:lnTo>
                    <a:pt x="774" y="364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9120" y="4062240"/>
              <a:ext cx="278280" cy="289080"/>
            </a:xfrm>
            <a:custGeom>
              <a:avLst/>
              <a:gdLst/>
              <a:ahLst/>
              <a:rect l="l" t="t" r="r" b="b"/>
              <a:pathLst>
                <a:path w="484" h="546">
                  <a:moveTo>
                    <a:pt x="484" y="117"/>
                  </a:moveTo>
                  <a:lnTo>
                    <a:pt x="348" y="0"/>
                  </a:lnTo>
                  <a:lnTo>
                    <a:pt x="0" y="546"/>
                  </a:lnTo>
                  <a:lnTo>
                    <a:pt x="359" y="519"/>
                  </a:lnTo>
                  <a:lnTo>
                    <a:pt x="484" y="117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45920" y="4051080"/>
              <a:ext cx="383400" cy="263520"/>
            </a:xfrm>
            <a:custGeom>
              <a:avLst/>
              <a:gdLst/>
              <a:ahLst/>
              <a:rect l="l" t="t" r="r" b="b"/>
              <a:pathLst>
                <a:path w="668" h="498">
                  <a:moveTo>
                    <a:pt x="13" y="439"/>
                  </a:moveTo>
                  <a:lnTo>
                    <a:pt x="67" y="449"/>
                  </a:lnTo>
                  <a:lnTo>
                    <a:pt x="88" y="498"/>
                  </a:lnTo>
                  <a:lnTo>
                    <a:pt x="296" y="477"/>
                  </a:lnTo>
                  <a:lnTo>
                    <a:pt x="668" y="245"/>
                  </a:lnTo>
                  <a:lnTo>
                    <a:pt x="664" y="102"/>
                  </a:lnTo>
                  <a:lnTo>
                    <a:pt x="477" y="0"/>
                  </a:lnTo>
                  <a:lnTo>
                    <a:pt x="0" y="187"/>
                  </a:lnTo>
                  <a:lnTo>
                    <a:pt x="13" y="43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06200" y="3449520"/>
              <a:ext cx="244080" cy="434880"/>
            </a:xfrm>
            <a:custGeom>
              <a:avLst/>
              <a:gdLst/>
              <a:ahLst/>
              <a:rect l="l" t="t" r="r" b="b"/>
              <a:pathLst>
                <a:path w="426" h="824">
                  <a:moveTo>
                    <a:pt x="0" y="0"/>
                  </a:moveTo>
                  <a:lnTo>
                    <a:pt x="1" y="796"/>
                  </a:lnTo>
                  <a:lnTo>
                    <a:pt x="286" y="824"/>
                  </a:lnTo>
                  <a:lnTo>
                    <a:pt x="426" y="567"/>
                  </a:lnTo>
                  <a:lnTo>
                    <a:pt x="263" y="4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97760" y="4181400"/>
              <a:ext cx="367920" cy="401760"/>
            </a:xfrm>
            <a:custGeom>
              <a:avLst/>
              <a:gdLst/>
              <a:ahLst/>
              <a:rect l="l" t="t" r="r" b="b"/>
              <a:pathLst>
                <a:path w="642" h="759">
                  <a:moveTo>
                    <a:pt x="0" y="253"/>
                  </a:moveTo>
                  <a:lnTo>
                    <a:pt x="170" y="648"/>
                  </a:lnTo>
                  <a:lnTo>
                    <a:pt x="600" y="759"/>
                  </a:lnTo>
                  <a:lnTo>
                    <a:pt x="642" y="139"/>
                  </a:lnTo>
                  <a:lnTo>
                    <a:pt x="579" y="0"/>
                  </a:lnTo>
                  <a:lnTo>
                    <a:pt x="209" y="235"/>
                  </a:lnTo>
                  <a:lnTo>
                    <a:pt x="0" y="25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051600" y="4724280"/>
            <a:ext cx="381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57240" y="4508640"/>
            <a:ext cx="55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rcel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2880" y="4724280"/>
            <a:ext cx="216000" cy="144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6880" y="2924280"/>
            <a:ext cx="82800" cy="75960"/>
          </a:xfrm>
          <a:custGeom>
            <a:avLst/>
            <a:gdLst>
              <a:gd name="textAreaLeft" fmla="*/ 34200 w 82800"/>
              <a:gd name="textAreaRight" fmla="*/ 48600 w 82800"/>
              <a:gd name="textAreaTop" fmla="*/ 31320 h 75960"/>
              <a:gd name="textAreaBottom" fmla="*/ 44640 h 7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480" bIns="-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81960" y="386064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67160" y="403848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73720" y="5105520"/>
            <a:ext cx="8280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1520" y="251460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Beaumont /O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55160" y="4724280"/>
            <a:ext cx="8244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05200" y="358128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63880" y="2133720"/>
            <a:ext cx="8244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50960" y="3505320"/>
            <a:ext cx="82440" cy="75960"/>
          </a:xfrm>
          <a:prstGeom prst="plus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32040" y="2362320"/>
            <a:ext cx="8280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84720" y="5562720"/>
            <a:ext cx="8244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99200" y="312408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7680" y="3200400"/>
            <a:ext cx="82440" cy="76320"/>
          </a:xfrm>
          <a:prstGeom prst="flowChartCollat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05600" y="4221000"/>
            <a:ext cx="82800" cy="71640"/>
          </a:xfrm>
          <a:prstGeom prst="flowChartCollat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79720" y="6019920"/>
            <a:ext cx="82800" cy="7596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57880" y="5562720"/>
            <a:ext cx="82440" cy="7596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556272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89720" y="3273480"/>
            <a:ext cx="93600" cy="81000"/>
          </a:xfrm>
          <a:prstGeom prst="hexagon">
            <a:avLst>
              <a:gd name="adj" fmla="val 28889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89600" y="5589720"/>
            <a:ext cx="92160" cy="79200"/>
          </a:xfrm>
          <a:prstGeom prst="hexagon">
            <a:avLst>
              <a:gd name="adj" fmla="val 29091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5410080"/>
            <a:ext cx="93600" cy="79560"/>
          </a:xfrm>
          <a:prstGeom prst="hexagon">
            <a:avLst>
              <a:gd name="adj" fmla="val 29412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4320" y="411480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5943600"/>
            <a:ext cx="91800" cy="79200"/>
          </a:xfrm>
          <a:prstGeom prst="hexagon">
            <a:avLst>
              <a:gd name="adj" fmla="val 28977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3360" y="4495680"/>
            <a:ext cx="93600" cy="79560"/>
          </a:xfrm>
          <a:prstGeom prst="hexagon">
            <a:avLst>
              <a:gd name="adj" fmla="val 29412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08840" y="3124080"/>
            <a:ext cx="91800" cy="79560"/>
          </a:xfrm>
          <a:prstGeom prst="hexagon">
            <a:avLst>
              <a:gd name="adj" fmla="val 2884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26040" y="281952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1520" y="3124080"/>
            <a:ext cx="92160" cy="79560"/>
          </a:xfrm>
          <a:prstGeom prst="hexagon">
            <a:avLst>
              <a:gd name="adj" fmla="val 28959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48160" y="3500280"/>
            <a:ext cx="719280" cy="152640"/>
          </a:xfrm>
          <a:prstGeom prst="hexagon">
            <a:avLst>
              <a:gd name="adj" fmla="val 117807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Pontoi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3645000"/>
            <a:ext cx="720720" cy="100080"/>
          </a:xfrm>
          <a:prstGeom prst="hexagon">
            <a:avLst>
              <a:gd name="adj" fmla="val 18003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St Ouen l’Aumô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49600" y="5257800"/>
            <a:ext cx="92160" cy="79200"/>
          </a:xfrm>
          <a:prstGeom prst="hexagon">
            <a:avLst>
              <a:gd name="adj" fmla="val 29091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68520" y="1424160"/>
            <a:ext cx="1904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92760" y="342576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87480" y="2921040"/>
            <a:ext cx="12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600" bIns="30600" anchor="t">
            <a:spAutoFit/>
          </a:bodyPr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93240" y="393372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oussain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16520" y="378936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r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21240" y="400536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rag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2880" y="5516640"/>
            <a:ext cx="190800" cy="14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8880" y="5516640"/>
            <a:ext cx="29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mmunauté d’agglomération Val et Forêt IDH 2 &gt; 0,50 av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2 villes en CU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29600" y="4797360"/>
            <a:ext cx="71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Garges-lès-Gon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50680" y="225252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ers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08160" y="2131920"/>
            <a:ext cx="5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h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4320" y="1316160"/>
            <a:ext cx="116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t Clair sur Ep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4520" y="227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Bray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97600" y="400536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Pierrrelay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24520" y="443700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Montigny les 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97600" y="20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Bruyères s/Oi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21600" y="1916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Bernes s/Oi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37600" y="1916280"/>
            <a:ext cx="287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89240" y="5734080"/>
            <a:ext cx="371520" cy="528480"/>
          </a:xfrm>
          <a:custGeom>
            <a:avLst/>
            <a:gdLst/>
            <a:ahLst/>
            <a:rect l="l" t="t" r="r" b="b"/>
            <a:pathLst>
              <a:path w="432" h="770">
                <a:moveTo>
                  <a:pt x="432" y="678"/>
                </a:moveTo>
                <a:lnTo>
                  <a:pt x="374" y="402"/>
                </a:lnTo>
                <a:lnTo>
                  <a:pt x="390" y="303"/>
                </a:lnTo>
                <a:lnTo>
                  <a:pt x="422" y="254"/>
                </a:lnTo>
                <a:lnTo>
                  <a:pt x="255" y="155"/>
                </a:lnTo>
                <a:lnTo>
                  <a:pt x="322" y="0"/>
                </a:lnTo>
                <a:lnTo>
                  <a:pt x="149" y="13"/>
                </a:lnTo>
                <a:lnTo>
                  <a:pt x="0" y="152"/>
                </a:lnTo>
                <a:lnTo>
                  <a:pt x="35" y="747"/>
                </a:lnTo>
                <a:lnTo>
                  <a:pt x="104" y="770"/>
                </a:lnTo>
                <a:lnTo>
                  <a:pt x="372" y="757"/>
                </a:lnTo>
                <a:lnTo>
                  <a:pt x="432" y="678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68520" y="5622840"/>
            <a:ext cx="522360" cy="343080"/>
          </a:xfrm>
          <a:custGeom>
            <a:avLst/>
            <a:gdLst/>
            <a:ahLst/>
            <a:rect l="l" t="t" r="r" b="b"/>
            <a:pathLst>
              <a:path w="609" h="498">
                <a:moveTo>
                  <a:pt x="609" y="311"/>
                </a:moveTo>
                <a:lnTo>
                  <a:pt x="595" y="220"/>
                </a:lnTo>
                <a:lnTo>
                  <a:pt x="242" y="0"/>
                </a:lnTo>
                <a:lnTo>
                  <a:pt x="0" y="338"/>
                </a:lnTo>
                <a:lnTo>
                  <a:pt x="517" y="498"/>
                </a:lnTo>
                <a:lnTo>
                  <a:pt x="609" y="311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73520" y="5838840"/>
            <a:ext cx="369720" cy="434880"/>
          </a:xfrm>
          <a:custGeom>
            <a:avLst/>
            <a:gdLst/>
            <a:ahLst/>
            <a:rect l="l" t="t" r="r" b="b"/>
            <a:pathLst>
              <a:path w="431" h="635">
                <a:moveTo>
                  <a:pt x="398" y="41"/>
                </a:moveTo>
                <a:lnTo>
                  <a:pt x="137" y="0"/>
                </a:lnTo>
                <a:lnTo>
                  <a:pt x="44" y="189"/>
                </a:lnTo>
                <a:lnTo>
                  <a:pt x="0" y="482"/>
                </a:lnTo>
                <a:lnTo>
                  <a:pt x="431" y="635"/>
                </a:lnTo>
                <a:lnTo>
                  <a:pt x="398" y="41"/>
                </a:lnTo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79840" y="5095800"/>
            <a:ext cx="455760" cy="679680"/>
          </a:xfrm>
          <a:custGeom>
            <a:avLst/>
            <a:gdLst/>
            <a:ahLst/>
            <a:rect l="l" t="t" r="r" b="b"/>
            <a:pathLst>
              <a:path w="532" h="986">
                <a:moveTo>
                  <a:pt x="532" y="76"/>
                </a:moveTo>
                <a:lnTo>
                  <a:pt x="530" y="1"/>
                </a:lnTo>
                <a:lnTo>
                  <a:pt x="337" y="0"/>
                </a:lnTo>
                <a:lnTo>
                  <a:pt x="0" y="766"/>
                </a:lnTo>
                <a:lnTo>
                  <a:pt x="352" y="986"/>
                </a:lnTo>
                <a:lnTo>
                  <a:pt x="532" y="76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73600" y="5157720"/>
            <a:ext cx="660240" cy="719280"/>
          </a:xfrm>
          <a:custGeom>
            <a:avLst/>
            <a:gdLst/>
            <a:ahLst/>
            <a:rect l="l" t="t" r="r" b="b"/>
            <a:pathLst>
              <a:path w="774" h="1048">
                <a:moveTo>
                  <a:pt x="774" y="364"/>
                </a:moveTo>
                <a:lnTo>
                  <a:pt x="733" y="214"/>
                </a:lnTo>
                <a:lnTo>
                  <a:pt x="451" y="28"/>
                </a:lnTo>
                <a:lnTo>
                  <a:pt x="180" y="0"/>
                </a:lnTo>
                <a:lnTo>
                  <a:pt x="0" y="913"/>
                </a:lnTo>
                <a:lnTo>
                  <a:pt x="13" y="1007"/>
                </a:lnTo>
                <a:lnTo>
                  <a:pt x="268" y="1048"/>
                </a:lnTo>
                <a:lnTo>
                  <a:pt x="425" y="907"/>
                </a:lnTo>
                <a:lnTo>
                  <a:pt x="774" y="364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46560" y="5396040"/>
            <a:ext cx="412920" cy="374400"/>
          </a:xfrm>
          <a:custGeom>
            <a:avLst/>
            <a:gdLst/>
            <a:ahLst/>
            <a:rect l="l" t="t" r="r" b="b"/>
            <a:pathLst>
              <a:path w="484" h="546">
                <a:moveTo>
                  <a:pt x="484" y="117"/>
                </a:moveTo>
                <a:lnTo>
                  <a:pt x="348" y="0"/>
                </a:lnTo>
                <a:lnTo>
                  <a:pt x="0" y="546"/>
                </a:lnTo>
                <a:lnTo>
                  <a:pt x="359" y="519"/>
                </a:lnTo>
                <a:lnTo>
                  <a:pt x="484" y="117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21240" y="5589720"/>
            <a:ext cx="60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Montlign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05240" y="6021360"/>
            <a:ext cx="72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aubon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12520" y="6021360"/>
            <a:ext cx="573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rmo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2880" y="4437000"/>
            <a:ext cx="216000" cy="144360"/>
          </a:xfrm>
          <a:prstGeom prst="rect">
            <a:avLst/>
          </a:prstGeom>
          <a:solidFill>
            <a:srgbClr val="33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800" y="4724280"/>
            <a:ext cx="21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DH2 &lt; 0,50 - CLS en cours  ou sign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23440" y="44366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Vaudher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64160" y="4292280"/>
            <a:ext cx="53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Le Thill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05600" y="4653000"/>
            <a:ext cx="142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12160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193240" y="5013360"/>
            <a:ext cx="28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040520" y="4797360"/>
            <a:ext cx="2174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532720" y="5516640"/>
            <a:ext cx="103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onneuil en Fr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5240" y="5805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Arnouville les Gon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05080" y="58053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Montmag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97724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048520" y="2492280"/>
            <a:ext cx="100800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913960" y="2338560"/>
            <a:ext cx="64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ouquev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8488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184880" y="2060640"/>
            <a:ext cx="792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689960" y="2205000"/>
            <a:ext cx="863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61440" y="2060640"/>
            <a:ext cx="7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Villiers le S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60520" y="1916280"/>
            <a:ext cx="62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Moissel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09:26:56Z</dcterms:created>
  <dc:creator>SUNLY KONG</dc:creator>
  <dc:description>Carte val d'oise sans contour : Eclatement possible des communes : Clic Droit puis Groupe Dissocier</dc:description>
  <cp:keywords>Carte95</cp:keywords>
  <dc:language>en-US</dc:language>
  <cp:lastModifiedBy>CHRD</cp:lastModifiedBy>
  <cp:lastPrinted>2011-12-14T19:09:57Z</cp:lastPrinted>
  <dcterms:modified xsi:type="dcterms:W3CDTF">2011-12-15T11:03:29Z</dcterms:modified>
  <cp:revision>173</cp:revision>
  <dc:subject>services ambulatoires</dc:subject>
  <dc:title>Medico-social</dc:title>
</cp:coreProperties>
</file>